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0DEA-88EB-4E97-9207-B2B2A3A9782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F2B-661E-4C43-84C3-EA2A20E00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DA8F-A9D1-4ABC-8E67-FC0BA54C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56DA-AB5F-4FB6-9C6B-8F2151990B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8D2-7B81-424E-A785-59327EA9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856-45AF-482C-AA67-5D7983E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5BE-EBDA-4AD9-B593-1760588E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508-6657-436B-9A9D-AF4104D7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E1E-5035-4B48-A5D0-E2C004D3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EE9-0FDB-448A-9EBE-B770F58E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D45-E7C1-4693-AF58-FCD9F9C8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672-6C62-453A-BC15-9118756E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79E-A7AE-4816-8929-48B61360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CD7-B5E3-41A5-89EF-665FB093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378-DAAE-41D1-979C-E65924F0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F0C-06A1-45C8-9A30-5F6097C7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8A4-44EF-43ED-A0FC-D4ED9ED86E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84320" y="141120"/>
            <a:ext cx="10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6994080" y="128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Jan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1"/>
          <p:cNvSpPr/>
          <p:nvPr/>
        </p:nvSpPr>
        <p:spPr>
          <a:xfrm>
            <a:off x="2991240" y="364500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ior Angles of a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872280" y="134136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s around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671360" y="13906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s ‘around a point’ on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046160" y="1443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1186920" y="29494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36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 + b + c = 3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6443640" y="270180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γ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=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4788360" y="450216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a + b + c =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0"/>
          <p:cNvGrpSpPr/>
          <p:nvPr/>
        </p:nvGrpSpPr>
        <p:grpSpPr>
          <a:xfrm>
            <a:off x="3780000" y="4076640"/>
            <a:ext cx="1439640" cy="1440000"/>
            <a:chOff x="3780000" y="4076640"/>
            <a:chExt cx="1439640" cy="1440000"/>
          </a:xfrm>
        </p:grpSpPr>
        <p:sp>
          <p:nvSpPr>
            <p:cNvPr id="57" name="AutoShape 10"/>
            <p:cNvSpPr/>
            <p:nvPr/>
          </p:nvSpPr>
          <p:spPr>
            <a:xfrm>
              <a:off x="3780000" y="4076640"/>
              <a:ext cx="1439640" cy="1440000"/>
            </a:xfrm>
            <a:prstGeom prst="triangle">
              <a:avLst>
                <a:gd name="adj" fmla="val 2935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32"/>
            <p:cNvSpPr/>
            <p:nvPr/>
          </p:nvSpPr>
          <p:spPr>
            <a:xfrm>
              <a:off x="3809880" y="5272200"/>
              <a:ext cx="176400" cy="237960"/>
            </a:xfrm>
            <a:custGeom>
              <a:avLst/>
              <a:gdLst/>
              <a:ahLst/>
              <a:rect l="l" t="t" r="r" b="b"/>
              <a:pathLst>
                <a:path fill="none" w="21600" h="23799">
                  <a:moveTo>
                    <a:pt x="6312" y="-1"/>
                  </a:moveTo>
                  <a:cubicBezTo>
                    <a:pt x="15395" y="2775"/>
                    <a:pt x="21600" y="11158"/>
                    <a:pt x="21600" y="20657"/>
                  </a:cubicBezTo>
                  <a:cubicBezTo>
                    <a:pt x="21600" y="21708"/>
                    <a:pt x="21523" y="22758"/>
                    <a:pt x="21370" y="23799"/>
                  </a:cubicBezTo>
                </a:path>
                <a:path stroke="0" w="21600" h="23799">
                  <a:moveTo>
                    <a:pt x="6312" y="-1"/>
                  </a:moveTo>
                  <a:cubicBezTo>
                    <a:pt x="15395" y="2775"/>
                    <a:pt x="21600" y="11158"/>
                    <a:pt x="21600" y="20657"/>
                  </a:cubicBezTo>
                  <a:cubicBezTo>
                    <a:pt x="21600" y="21708"/>
                    <a:pt x="21523" y="22758"/>
                    <a:pt x="21370" y="23799"/>
                  </a:cubicBezTo>
                  <a:lnTo>
                    <a:pt x="0" y="20657"/>
                  </a:lnTo>
                  <a:lnTo>
                    <a:pt x="631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33"/>
            <p:cNvSpPr/>
            <p:nvPr/>
          </p:nvSpPr>
          <p:spPr>
            <a:xfrm rot="5400000">
              <a:off x="4183920" y="4214160"/>
              <a:ext cx="147600" cy="311040"/>
            </a:xfrm>
            <a:custGeom>
              <a:avLst/>
              <a:gdLst/>
              <a:ahLst/>
              <a:rect l="l" t="t" r="r" b="b"/>
              <a:pathLst>
                <a:path fill="none" w="21600" h="28488">
                  <a:moveTo>
                    <a:pt x="14079" y="0"/>
                  </a:moveTo>
                  <a:cubicBezTo>
                    <a:pt x="18853" y="4103"/>
                    <a:pt x="21600" y="10085"/>
                    <a:pt x="21600" y="16381"/>
                  </a:cubicBezTo>
                  <a:cubicBezTo>
                    <a:pt x="21600" y="20696"/>
                    <a:pt x="20307" y="24913"/>
                    <a:pt x="17888" y="28488"/>
                  </a:cubicBezTo>
                </a:path>
                <a:path stroke="0" w="21600" h="28488">
                  <a:moveTo>
                    <a:pt x="14079" y="0"/>
                  </a:moveTo>
                  <a:cubicBezTo>
                    <a:pt x="18853" y="4103"/>
                    <a:pt x="21600" y="10085"/>
                    <a:pt x="21600" y="16381"/>
                  </a:cubicBezTo>
                  <a:cubicBezTo>
                    <a:pt x="21600" y="20696"/>
                    <a:pt x="20307" y="24913"/>
                    <a:pt x="17888" y="28488"/>
                  </a:cubicBezTo>
                  <a:lnTo>
                    <a:pt x="0" y="16381"/>
                  </a:lnTo>
                  <a:lnTo>
                    <a:pt x="1407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34"/>
            <p:cNvSpPr/>
            <p:nvPr/>
          </p:nvSpPr>
          <p:spPr>
            <a:xfrm flipH="1">
              <a:off x="4930920" y="5261040"/>
              <a:ext cx="147600" cy="255600"/>
            </a:xfrm>
            <a:custGeom>
              <a:avLst/>
              <a:gdLst/>
              <a:ahLst/>
              <a:rect l="l" t="t" r="r" b="b"/>
              <a:pathLst>
                <a:path fill="none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</a:path>
                <a:path stroke="0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  <a:lnTo>
                    <a:pt x="0" y="20569"/>
                  </a:lnTo>
                  <a:lnTo>
                    <a:pt x="659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"/>
            <p:cNvSpPr/>
            <p:nvPr/>
          </p:nvSpPr>
          <p:spPr>
            <a:xfrm>
              <a:off x="4116600" y="435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6"/>
            <p:cNvSpPr/>
            <p:nvPr/>
          </p:nvSpPr>
          <p:spPr>
            <a:xfrm>
              <a:off x="3907080" y="509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7"/>
            <p:cNvSpPr/>
            <p:nvPr/>
          </p:nvSpPr>
          <p:spPr>
            <a:xfrm>
              <a:off x="4678200" y="509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48"/>
          <p:cNvGrpSpPr/>
          <p:nvPr/>
        </p:nvGrpSpPr>
        <p:grpSpPr>
          <a:xfrm>
            <a:off x="1779480" y="1774800"/>
            <a:ext cx="1071360" cy="1211400"/>
            <a:chOff x="1779480" y="1774800"/>
            <a:chExt cx="1071360" cy="1211400"/>
          </a:xfrm>
        </p:grpSpPr>
        <p:sp>
          <p:nvSpPr>
            <p:cNvPr id="65" name="Oval 12"/>
            <p:cNvSpPr/>
            <p:nvPr/>
          </p:nvSpPr>
          <p:spPr>
            <a:xfrm>
              <a:off x="2303640" y="2340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2340000" y="17748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15"/>
            <p:cNvSpPr/>
            <p:nvPr/>
          </p:nvSpPr>
          <p:spPr>
            <a:xfrm>
              <a:off x="2052720" y="2098800"/>
              <a:ext cx="574560" cy="5745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17"/>
                    <a:pt x="9598" y="65"/>
                    <a:pt x="21481" y="0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17"/>
                    <a:pt x="9598" y="65"/>
                    <a:pt x="21481" y="0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 flipH="1">
              <a:off x="2336400" y="2362320"/>
              <a:ext cx="514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 flipV="1">
              <a:off x="1943280" y="2371680"/>
              <a:ext cx="39024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0"/>
            <p:cNvSpPr/>
            <p:nvPr/>
          </p:nvSpPr>
          <p:spPr>
            <a:xfrm>
              <a:off x="2456280" y="1849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1"/>
            <p:cNvSpPr/>
            <p:nvPr/>
          </p:nvSpPr>
          <p:spPr>
            <a:xfrm>
              <a:off x="2351520" y="261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2"/>
            <p:cNvSpPr/>
            <p:nvPr/>
          </p:nvSpPr>
          <p:spPr>
            <a:xfrm>
              <a:off x="1779480" y="2017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49"/>
          <p:cNvGrpSpPr/>
          <p:nvPr/>
        </p:nvGrpSpPr>
        <p:grpSpPr>
          <a:xfrm>
            <a:off x="5143680" y="1928880"/>
            <a:ext cx="1990440" cy="731880"/>
            <a:chOff x="5143680" y="1928880"/>
            <a:chExt cx="1990440" cy="731880"/>
          </a:xfrm>
        </p:grpSpPr>
        <p:sp>
          <p:nvSpPr>
            <p:cNvPr id="74" name="Line 16"/>
            <p:cNvSpPr/>
            <p:nvPr/>
          </p:nvSpPr>
          <p:spPr>
            <a:xfrm>
              <a:off x="5143680" y="2622600"/>
              <a:ext cx="19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8"/>
            <p:cNvSpPr/>
            <p:nvPr/>
          </p:nvSpPr>
          <p:spPr>
            <a:xfrm>
              <a:off x="6100920" y="258912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rc 19"/>
            <p:cNvSpPr/>
            <p:nvPr/>
          </p:nvSpPr>
          <p:spPr>
            <a:xfrm flipH="1" rot="5400000">
              <a:off x="5953680" y="2108160"/>
              <a:ext cx="349200" cy="685800"/>
            </a:xfrm>
            <a:custGeom>
              <a:avLst/>
              <a:gdLst/>
              <a:ahLst/>
              <a:rect l="l" t="t" r="r" b="b"/>
              <a:pathLst>
                <a:path fill="none" w="22633" h="43200">
                  <a:moveTo>
                    <a:pt x="1032" y="0"/>
                  </a:moveTo>
                  <a:cubicBezTo>
                    <a:pt x="12962" y="0"/>
                    <a:pt x="22633" y="9670"/>
                    <a:pt x="22633" y="21600"/>
                  </a:cubicBezTo>
                  <a:cubicBezTo>
                    <a:pt x="22633" y="33529"/>
                    <a:pt x="12962" y="43200"/>
                    <a:pt x="1033" y="43200"/>
                  </a:cubicBezTo>
                  <a:cubicBezTo>
                    <a:pt x="688" y="43200"/>
                    <a:pt x="344" y="43191"/>
                    <a:pt x="-1" y="43175"/>
                  </a:cubicBezTo>
                </a:path>
                <a:path stroke="0" w="22633" h="43200">
                  <a:moveTo>
                    <a:pt x="1032" y="0"/>
                  </a:moveTo>
                  <a:cubicBezTo>
                    <a:pt x="12962" y="0"/>
                    <a:pt x="22633" y="9670"/>
                    <a:pt x="22633" y="21600"/>
                  </a:cubicBezTo>
                  <a:cubicBezTo>
                    <a:pt x="22633" y="33529"/>
                    <a:pt x="12962" y="43200"/>
                    <a:pt x="1033" y="43200"/>
                  </a:cubicBezTo>
                  <a:cubicBezTo>
                    <a:pt x="688" y="43200"/>
                    <a:pt x="344" y="43191"/>
                    <a:pt x="-1" y="43175"/>
                  </a:cubicBezTo>
                  <a:lnTo>
                    <a:pt x="1033" y="21600"/>
                  </a:lnTo>
                  <a:lnTo>
                    <a:pt x="103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H="1">
              <a:off x="6136920" y="2200320"/>
              <a:ext cx="39996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5838840" y="2139840"/>
              <a:ext cx="29520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5"/>
            <p:cNvSpPr/>
            <p:nvPr/>
          </p:nvSpPr>
          <p:spPr>
            <a:xfrm>
              <a:off x="6414840" y="22464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6"/>
            <p:cNvSpPr/>
            <p:nvPr/>
          </p:nvSpPr>
          <p:spPr>
            <a:xfrm>
              <a:off x="6015600" y="1928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7"/>
            <p:cNvSpPr/>
            <p:nvPr/>
          </p:nvSpPr>
          <p:spPr>
            <a:xfrm>
              <a:off x="5538600" y="2243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5151600" y="1882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erna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1046160" y="1443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2576880" y="35226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6396120" y="3441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1"/>
          <p:cNvSpPr/>
          <p:nvPr/>
        </p:nvSpPr>
        <p:spPr>
          <a:xfrm>
            <a:off x="3890880" y="5010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66600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6733080" y="295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3"/>
          <p:cNvGrpSpPr/>
          <p:nvPr/>
        </p:nvGrpSpPr>
        <p:grpSpPr>
          <a:xfrm>
            <a:off x="3095640" y="3713040"/>
            <a:ext cx="2303280" cy="1728720"/>
            <a:chOff x="3095640" y="3713040"/>
            <a:chExt cx="2303280" cy="1728720"/>
          </a:xfrm>
        </p:grpSpPr>
        <p:sp>
          <p:nvSpPr>
            <p:cNvPr id="90" name="Line 23"/>
            <p:cNvSpPr/>
            <p:nvPr/>
          </p:nvSpPr>
          <p:spPr>
            <a:xfrm>
              <a:off x="3095640" y="41446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3095640" y="493704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311280" y="3713040"/>
              <a:ext cx="180000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rc 26"/>
            <p:cNvSpPr/>
            <p:nvPr/>
          </p:nvSpPr>
          <p:spPr>
            <a:xfrm>
              <a:off x="4093920" y="4689360"/>
              <a:ext cx="70920" cy="247680"/>
            </a:xfrm>
            <a:custGeom>
              <a:avLst/>
              <a:gdLst/>
              <a:ahLst/>
              <a:rect l="l" t="t" r="r" b="b"/>
              <a:pathLst>
                <a:path fill="none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</a:path>
                <a:path stroke="0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rc 32"/>
            <p:cNvSpPr/>
            <p:nvPr/>
          </p:nvSpPr>
          <p:spPr>
            <a:xfrm>
              <a:off x="4920840" y="3897000"/>
              <a:ext cx="71280" cy="247680"/>
            </a:xfrm>
            <a:custGeom>
              <a:avLst/>
              <a:gdLst/>
              <a:ahLst/>
              <a:rect l="l" t="t" r="r" b="b"/>
              <a:pathLst>
                <a:path fill="none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</a:path>
                <a:path stroke="0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36"/>
          <p:cNvSpPr/>
          <p:nvPr/>
        </p:nvSpPr>
        <p:spPr>
          <a:xfrm>
            <a:off x="4177080" y="455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50080" y="37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5"/>
          <p:cNvGrpSpPr/>
          <p:nvPr/>
        </p:nvGrpSpPr>
        <p:grpSpPr>
          <a:xfrm>
            <a:off x="5691240" y="2073240"/>
            <a:ext cx="2303280" cy="1728720"/>
            <a:chOff x="5691240" y="2073240"/>
            <a:chExt cx="2303280" cy="1728720"/>
          </a:xfrm>
        </p:grpSpPr>
        <p:grpSp>
          <p:nvGrpSpPr>
            <p:cNvPr id="98" name="Group 2"/>
            <p:cNvGrpSpPr/>
            <p:nvPr/>
          </p:nvGrpSpPr>
          <p:grpSpPr>
            <a:xfrm>
              <a:off x="5691240" y="2073240"/>
              <a:ext cx="2303280" cy="1728720"/>
              <a:chOff x="5691240" y="2073240"/>
              <a:chExt cx="2303280" cy="1728720"/>
            </a:xfrm>
          </p:grpSpPr>
          <p:sp>
            <p:nvSpPr>
              <p:cNvPr id="99" name="Line 3"/>
              <p:cNvSpPr/>
              <p:nvPr/>
            </p:nvSpPr>
            <p:spPr>
              <a:xfrm>
                <a:off x="5691240" y="2504880"/>
                <a:ext cx="23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"/>
              <p:cNvSpPr/>
              <p:nvPr/>
            </p:nvSpPr>
            <p:spPr>
              <a:xfrm>
                <a:off x="5691240" y="3296880"/>
                <a:ext cx="23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"/>
              <p:cNvSpPr/>
              <p:nvPr/>
            </p:nvSpPr>
            <p:spPr>
              <a:xfrm flipV="1">
                <a:off x="5906880" y="2073240"/>
                <a:ext cx="180000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rc 6"/>
              <p:cNvSpPr/>
              <p:nvPr/>
            </p:nvSpPr>
            <p:spPr>
              <a:xfrm>
                <a:off x="6686280" y="3049200"/>
                <a:ext cx="71280" cy="247320"/>
              </a:xfrm>
              <a:custGeom>
                <a:avLst/>
                <a:gdLst/>
                <a:ahLst/>
                <a:rect l="l" t="t" r="r" b="b"/>
                <a:pathLst>
                  <a:path fill="none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</a:path>
                  <a:path stroke="0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rc 7"/>
              <p:cNvSpPr/>
              <p:nvPr/>
            </p:nvSpPr>
            <p:spPr>
              <a:xfrm flipH="1" flipV="1">
                <a:off x="6987960" y="2505600"/>
                <a:ext cx="71280" cy="206280"/>
              </a:xfrm>
              <a:custGeom>
                <a:avLst/>
                <a:gdLst/>
                <a:ahLst/>
                <a:rect l="l" t="t" r="r" b="b"/>
                <a:pathLst>
                  <a:path fill="none" w="21600" h="20621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</a:path>
                  <a:path stroke="0" w="21600" h="20621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  <a:lnTo>
                      <a:pt x="0" y="20621"/>
                    </a:lnTo>
                    <a:lnTo>
                      <a:pt x="64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42"/>
            <p:cNvSpPr/>
            <p:nvPr/>
          </p:nvSpPr>
          <p:spPr>
            <a:xfrm flipH="1" rot="16200000">
              <a:off x="7540920" y="31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3"/>
            <p:cNvSpPr/>
            <p:nvPr/>
          </p:nvSpPr>
          <p:spPr>
            <a:xfrm flipH="1" rot="16200000">
              <a:off x="7540920" y="2322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44"/>
          <p:cNvSpPr/>
          <p:nvPr/>
        </p:nvSpPr>
        <p:spPr>
          <a:xfrm flipH="1" rot="16200000">
            <a:off x="3242880" y="475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 flipH="1" rot="16200000">
            <a:off x="3242880" y="395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1001880" y="958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si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965240" y="2325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8"/>
          <p:cNvGrpSpPr/>
          <p:nvPr/>
        </p:nvGrpSpPr>
        <p:grpSpPr>
          <a:xfrm>
            <a:off x="1501920" y="1461600"/>
            <a:ext cx="1944720" cy="1081080"/>
            <a:chOff x="1501920" y="1461600"/>
            <a:chExt cx="1944720" cy="1081080"/>
          </a:xfrm>
        </p:grpSpPr>
        <p:sp>
          <p:nvSpPr>
            <p:cNvPr id="111" name="Line 49"/>
            <p:cNvSpPr/>
            <p:nvPr/>
          </p:nvSpPr>
          <p:spPr>
            <a:xfrm flipV="1">
              <a:off x="1501920" y="1461600"/>
              <a:ext cx="187200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0"/>
            <p:cNvSpPr/>
            <p:nvPr/>
          </p:nvSpPr>
          <p:spPr>
            <a:xfrm>
              <a:off x="1573560" y="1535040"/>
              <a:ext cx="1873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rc 51"/>
            <p:cNvSpPr/>
            <p:nvPr/>
          </p:nvSpPr>
          <p:spPr>
            <a:xfrm rot="708600">
              <a:off x="2727720" y="1821960"/>
              <a:ext cx="142920" cy="272880"/>
            </a:xfrm>
            <a:custGeom>
              <a:avLst/>
              <a:gdLst/>
              <a:ahLst/>
              <a:rect l="l" t="t" r="r" b="b"/>
              <a:pathLst>
                <a:path fill="none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</a:path>
                <a:path stroke="0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  <a:lnTo>
                    <a:pt x="0" y="21549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rc 52"/>
            <p:cNvSpPr/>
            <p:nvPr/>
          </p:nvSpPr>
          <p:spPr>
            <a:xfrm flipH="1" rot="20891400">
              <a:off x="2150640" y="1833480"/>
              <a:ext cx="142920" cy="276120"/>
            </a:xfrm>
            <a:custGeom>
              <a:avLst/>
              <a:gdLst/>
              <a:ahLst/>
              <a:rect l="l" t="t" r="r" b="b"/>
              <a:pathLst>
                <a:path fill="none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</a:path>
                <a:path stroke="0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  <a:lnTo>
                    <a:pt x="0" y="20158"/>
                  </a:lnTo>
                  <a:lnTo>
                    <a:pt x="775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53"/>
          <p:cNvSpPr/>
          <p:nvPr/>
        </p:nvSpPr>
        <p:spPr>
          <a:xfrm>
            <a:off x="184968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29228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5"/>
          <p:cNvSpPr/>
          <p:nvPr/>
        </p:nvSpPr>
        <p:spPr>
          <a:xfrm flipH="1">
            <a:off x="2274840" y="3211560"/>
            <a:ext cx="17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7960" y="836640"/>
            <a:ext cx="28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w we combine the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5639040" y="20066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nd angle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giving your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3732120" y="1771560"/>
            <a:ext cx="1440000" cy="1440000"/>
          </a:xfrm>
          <a:prstGeom prst="triangle">
            <a:avLst>
              <a:gd name="adj" fmla="val 293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1"/>
          <p:cNvSpPr/>
          <p:nvPr/>
        </p:nvSpPr>
        <p:spPr>
          <a:xfrm flipH="1">
            <a:off x="3440880" y="2919240"/>
            <a:ext cx="536760" cy="520920"/>
          </a:xfrm>
          <a:custGeom>
            <a:avLst/>
            <a:gdLst/>
            <a:ahLst/>
            <a:rect l="l" t="t" r="r" b="b"/>
            <a:pathLst>
              <a:path fill="none" w="19821" h="20657">
                <a:moveTo>
                  <a:pt x="6312" y="-1"/>
                </a:moveTo>
                <a:cubicBezTo>
                  <a:pt x="12366" y="1849"/>
                  <a:pt x="17304" y="6262"/>
                  <a:pt x="19820" y="12072"/>
                </a:cubicBezTo>
              </a:path>
              <a:path stroke="0" w="19821" h="20657">
                <a:moveTo>
                  <a:pt x="6312" y="-1"/>
                </a:moveTo>
                <a:cubicBezTo>
                  <a:pt x="12366" y="1849"/>
                  <a:pt x="17304" y="6262"/>
                  <a:pt x="19820" y="12072"/>
                </a:cubicBezTo>
                <a:lnTo>
                  <a:pt x="0" y="20657"/>
                </a:lnTo>
                <a:lnTo>
                  <a:pt x="631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2"/>
          <p:cNvSpPr/>
          <p:nvPr/>
        </p:nvSpPr>
        <p:spPr>
          <a:xfrm rot="5400000">
            <a:off x="4135680" y="1908720"/>
            <a:ext cx="147600" cy="311400"/>
          </a:xfrm>
          <a:custGeom>
            <a:avLst/>
            <a:gdLst/>
            <a:ahLst/>
            <a:rect l="l" t="t" r="r" b="b"/>
            <a:pathLst>
              <a:path fill="none" w="21600" h="28488">
                <a:moveTo>
                  <a:pt x="14079" y="0"/>
                </a:moveTo>
                <a:cubicBezTo>
                  <a:pt x="18853" y="4103"/>
                  <a:pt x="21600" y="10085"/>
                  <a:pt x="21600" y="16381"/>
                </a:cubicBezTo>
                <a:cubicBezTo>
                  <a:pt x="21600" y="20696"/>
                  <a:pt x="20307" y="24913"/>
                  <a:pt x="17888" y="28488"/>
                </a:cubicBezTo>
              </a:path>
              <a:path stroke="0" w="21600" h="28488">
                <a:moveTo>
                  <a:pt x="14079" y="0"/>
                </a:moveTo>
                <a:cubicBezTo>
                  <a:pt x="18853" y="4103"/>
                  <a:pt x="21600" y="10085"/>
                  <a:pt x="21600" y="16381"/>
                </a:cubicBezTo>
                <a:cubicBezTo>
                  <a:pt x="21600" y="20696"/>
                  <a:pt x="20307" y="24913"/>
                  <a:pt x="17888" y="28488"/>
                </a:cubicBezTo>
                <a:lnTo>
                  <a:pt x="0" y="16381"/>
                </a:lnTo>
                <a:lnTo>
                  <a:pt x="1407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c 13"/>
          <p:cNvSpPr/>
          <p:nvPr/>
        </p:nvSpPr>
        <p:spPr>
          <a:xfrm flipH="1">
            <a:off x="4883040" y="2955960"/>
            <a:ext cx="147600" cy="255600"/>
          </a:xfrm>
          <a:custGeom>
            <a:avLst/>
            <a:gdLst/>
            <a:ahLst/>
            <a:rect l="l" t="t" r="r" b="b"/>
            <a:pathLst>
              <a:path fill="none" w="21600" h="23711">
                <a:moveTo>
                  <a:pt x="6593" y="0"/>
                </a:moveTo>
                <a:cubicBezTo>
                  <a:pt x="15534" y="2866"/>
                  <a:pt x="21600" y="11180"/>
                  <a:pt x="21600" y="20569"/>
                </a:cubicBezTo>
                <a:cubicBezTo>
                  <a:pt x="21600" y="21620"/>
                  <a:pt x="21523" y="22670"/>
                  <a:pt x="21370" y="23711"/>
                </a:cubicBezTo>
              </a:path>
              <a:path stroke="0" w="21600" h="23711">
                <a:moveTo>
                  <a:pt x="6593" y="0"/>
                </a:moveTo>
                <a:cubicBezTo>
                  <a:pt x="15534" y="2866"/>
                  <a:pt x="21600" y="11180"/>
                  <a:pt x="21600" y="20569"/>
                </a:cubicBezTo>
                <a:cubicBezTo>
                  <a:pt x="21600" y="21620"/>
                  <a:pt x="21523" y="22670"/>
                  <a:pt x="21370" y="23711"/>
                </a:cubicBezTo>
                <a:lnTo>
                  <a:pt x="0" y="20569"/>
                </a:lnTo>
                <a:lnTo>
                  <a:pt x="659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994920" y="21099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4630320" y="2792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3033360" y="2754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142240" y="31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3576960" y="31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954440" y="31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964320" y="144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1065960" y="3994200"/>
            <a:ext cx="794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ACB = 1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° - 7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gles on a straight line add up to 18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5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= 1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° - 75° - 55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gles in a triangle add up to 18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ngle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   = 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6"/>
          <p:cNvSpPr/>
          <p:nvPr/>
        </p:nvSpPr>
        <p:spPr>
          <a:xfrm>
            <a:off x="3762360" y="2967120"/>
            <a:ext cx="176400" cy="237960"/>
          </a:xfrm>
          <a:custGeom>
            <a:avLst/>
            <a:gdLst/>
            <a:ahLst/>
            <a:rect l="l" t="t" r="r" b="b"/>
            <a:pathLst>
              <a:path fill="none" w="21600" h="23799">
                <a:moveTo>
                  <a:pt x="6312" y="-1"/>
                </a:moveTo>
                <a:cubicBezTo>
                  <a:pt x="15395" y="2775"/>
                  <a:pt x="21600" y="11158"/>
                  <a:pt x="21600" y="20657"/>
                </a:cubicBezTo>
                <a:cubicBezTo>
                  <a:pt x="21600" y="21708"/>
                  <a:pt x="21523" y="22758"/>
                  <a:pt x="21370" y="23799"/>
                </a:cubicBezTo>
              </a:path>
              <a:path stroke="0" w="21600" h="23799">
                <a:moveTo>
                  <a:pt x="6312" y="-1"/>
                </a:moveTo>
                <a:cubicBezTo>
                  <a:pt x="15395" y="2775"/>
                  <a:pt x="21600" y="11158"/>
                  <a:pt x="21600" y="20657"/>
                </a:cubicBezTo>
                <a:cubicBezTo>
                  <a:pt x="21600" y="21708"/>
                  <a:pt x="21523" y="22758"/>
                  <a:pt x="21370" y="23799"/>
                </a:cubicBezTo>
                <a:lnTo>
                  <a:pt x="0" y="20657"/>
                </a:lnTo>
                <a:lnTo>
                  <a:pt x="6312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871080" y="281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687960" y="836640"/>
            <a:ext cx="28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w we combine the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639040" y="20066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nd angle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giving your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037520" y="3994200"/>
            <a:ext cx="794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ABE = 1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° - 9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° - 32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gles on a straight line add up to 18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5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= angle A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lternate angles are eq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ngle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θ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   = 5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9"/>
          <p:cNvGrpSpPr/>
          <p:nvPr/>
        </p:nvGrpSpPr>
        <p:grpSpPr>
          <a:xfrm>
            <a:off x="2547720" y="1601280"/>
            <a:ext cx="2904840" cy="1805400"/>
            <a:chOff x="2547720" y="1601280"/>
            <a:chExt cx="2904840" cy="1805400"/>
          </a:xfrm>
        </p:grpSpPr>
        <p:sp>
          <p:nvSpPr>
            <p:cNvPr id="138" name="Line 2"/>
            <p:cNvSpPr/>
            <p:nvPr/>
          </p:nvSpPr>
          <p:spPr>
            <a:xfrm flipH="1" flipV="1">
              <a:off x="3817800" y="1601280"/>
              <a:ext cx="57816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rc 8"/>
            <p:cNvSpPr/>
            <p:nvPr/>
          </p:nvSpPr>
          <p:spPr>
            <a:xfrm flipH="1">
              <a:off x="4082400" y="1927080"/>
              <a:ext cx="119160" cy="189000"/>
            </a:xfrm>
            <a:custGeom>
              <a:avLst/>
              <a:gdLst/>
              <a:ahLst/>
              <a:rect l="l" t="t" r="r" b="b"/>
              <a:pathLst>
                <a:path fill="none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</a:path>
                <a:path stroke="0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  <a:lnTo>
                    <a:pt x="0" y="20569"/>
                  </a:lnTo>
                  <a:lnTo>
                    <a:pt x="659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3658320" y="176364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2560680" y="1909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5100840" y="1928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5107320" y="2700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4287960" y="2077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2830680" y="21099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2830680" y="29019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1"/>
            <p:cNvSpPr/>
            <p:nvPr/>
          </p:nvSpPr>
          <p:spPr>
            <a:xfrm flipV="1">
              <a:off x="3046320" y="1677960"/>
              <a:ext cx="180036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22"/>
            <p:cNvSpPr/>
            <p:nvPr/>
          </p:nvSpPr>
          <p:spPr>
            <a:xfrm>
              <a:off x="3825720" y="2654280"/>
              <a:ext cx="71640" cy="247680"/>
            </a:xfrm>
            <a:custGeom>
              <a:avLst/>
              <a:gdLst/>
              <a:ahLst/>
              <a:rect l="l" t="t" r="r" b="b"/>
              <a:pathLst>
                <a:path fill="none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</a:path>
                <a:path stroke="0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4"/>
            <p:cNvSpPr/>
            <p:nvPr/>
          </p:nvSpPr>
          <p:spPr>
            <a:xfrm>
              <a:off x="3907080" y="251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 rot="13623600">
              <a:off x="4333680" y="1933200"/>
              <a:ext cx="133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3484800" y="2878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2547720" y="27129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rc 35"/>
          <p:cNvSpPr/>
          <p:nvPr/>
        </p:nvSpPr>
        <p:spPr>
          <a:xfrm flipH="1" flipV="1">
            <a:off x="4083120" y="2115360"/>
            <a:ext cx="115920" cy="206280"/>
          </a:xfrm>
          <a:custGeom>
            <a:avLst/>
            <a:gdLst/>
            <a:ahLst/>
            <a:rect l="l" t="t" r="r" b="b"/>
            <a:pathLst>
              <a:path fill="none" w="21600" h="20621">
                <a:moveTo>
                  <a:pt x="6429" y="0"/>
                </a:moveTo>
                <a:cubicBezTo>
                  <a:pt x="15453" y="2814"/>
                  <a:pt x="21600" y="11168"/>
                  <a:pt x="21600" y="20621"/>
                </a:cubicBezTo>
              </a:path>
              <a:path stroke="0" w="21600" h="20621">
                <a:moveTo>
                  <a:pt x="6429" y="0"/>
                </a:moveTo>
                <a:cubicBezTo>
                  <a:pt x="15453" y="2814"/>
                  <a:pt x="21600" y="11168"/>
                  <a:pt x="21600" y="20621"/>
                </a:cubicBezTo>
                <a:lnTo>
                  <a:pt x="0" y="20621"/>
                </a:lnTo>
                <a:lnTo>
                  <a:pt x="6429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3652200" y="2093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 flipH="1" rot="16200000">
            <a:off x="2883240" y="270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 flipH="1" rot="16200000">
            <a:off x="2883240" y="1922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5800" y="144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ew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792680" y="29973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si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118880" y="12682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ior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2443320" y="27288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c + d =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5756400" y="43639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1639800" y="1459080"/>
            <a:ext cx="2303640" cy="1728720"/>
            <a:chOff x="1639800" y="1459080"/>
            <a:chExt cx="2303640" cy="1728720"/>
          </a:xfrm>
        </p:grpSpPr>
        <p:grpSp>
          <p:nvGrpSpPr>
            <p:cNvPr id="163" name="Group 27"/>
            <p:cNvGrpSpPr/>
            <p:nvPr/>
          </p:nvGrpSpPr>
          <p:grpSpPr>
            <a:xfrm>
              <a:off x="1639800" y="1459080"/>
              <a:ext cx="2303640" cy="1728720"/>
              <a:chOff x="1639800" y="1459080"/>
              <a:chExt cx="2303640" cy="1728720"/>
            </a:xfrm>
          </p:grpSpPr>
          <p:sp>
            <p:nvSpPr>
              <p:cNvPr id="164" name="Line 12"/>
              <p:cNvSpPr/>
              <p:nvPr/>
            </p:nvSpPr>
            <p:spPr>
              <a:xfrm>
                <a:off x="1639800" y="1890720"/>
                <a:ext cx="23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639800" y="2682720"/>
                <a:ext cx="23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 flipV="1">
                <a:off x="1855800" y="1459080"/>
                <a:ext cx="180036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>
                <a:off x="2635200" y="2435400"/>
                <a:ext cx="716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</a:path>
                  <a:path stroke="0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rc 16"/>
              <p:cNvSpPr/>
              <p:nvPr/>
            </p:nvSpPr>
            <p:spPr>
              <a:xfrm flipV="1" rot="3786600">
                <a:off x="3130560" y="1803960"/>
                <a:ext cx="157320" cy="430200"/>
              </a:xfrm>
              <a:custGeom>
                <a:avLst/>
                <a:gdLst/>
                <a:ahLst/>
                <a:rect l="l" t="t" r="r" b="b"/>
                <a:pathLst>
                  <a:path fill="none" w="21600" h="41527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  <a:cubicBezTo>
                      <a:pt x="21600" y="30457"/>
                      <a:pt x="14953" y="39052"/>
                      <a:pt x="5432" y="41526"/>
                    </a:cubicBezTo>
                  </a:path>
                  <a:path stroke="0" w="21600" h="41527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  <a:cubicBezTo>
                      <a:pt x="21600" y="30457"/>
                      <a:pt x="14953" y="39052"/>
                      <a:pt x="5432" y="41526"/>
                    </a:cubicBezTo>
                    <a:lnTo>
                      <a:pt x="0" y="20621"/>
                    </a:lnTo>
                    <a:lnTo>
                      <a:pt x="64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ectangle 28"/>
            <p:cNvSpPr/>
            <p:nvPr/>
          </p:nvSpPr>
          <p:spPr>
            <a:xfrm>
              <a:off x="2716200" y="23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3351600" y="193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0"/>
          <p:cNvGrpSpPr/>
          <p:nvPr/>
        </p:nvGrpSpPr>
        <p:grpSpPr>
          <a:xfrm>
            <a:off x="5292720" y="3499920"/>
            <a:ext cx="1944720" cy="1081080"/>
            <a:chOff x="5292720" y="3499920"/>
            <a:chExt cx="1944720" cy="1081080"/>
          </a:xfrm>
        </p:grpSpPr>
        <p:sp>
          <p:nvSpPr>
            <p:cNvPr id="172" name="Line 5"/>
            <p:cNvSpPr/>
            <p:nvPr/>
          </p:nvSpPr>
          <p:spPr>
            <a:xfrm flipV="1">
              <a:off x="5292720" y="3499920"/>
              <a:ext cx="187200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5364360" y="3573360"/>
              <a:ext cx="1873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rc 8"/>
            <p:cNvSpPr/>
            <p:nvPr/>
          </p:nvSpPr>
          <p:spPr>
            <a:xfrm rot="708600">
              <a:off x="6518520" y="3860280"/>
              <a:ext cx="142920" cy="272880"/>
            </a:xfrm>
            <a:custGeom>
              <a:avLst/>
              <a:gdLst/>
              <a:ahLst/>
              <a:rect l="l" t="t" r="r" b="b"/>
              <a:pathLst>
                <a:path fill="none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</a:path>
                <a:path stroke="0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  <a:lnTo>
                    <a:pt x="0" y="21549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9"/>
            <p:cNvSpPr/>
            <p:nvPr/>
          </p:nvSpPr>
          <p:spPr>
            <a:xfrm flipH="1" rot="20891400">
              <a:off x="5941440" y="3871800"/>
              <a:ext cx="142920" cy="276120"/>
            </a:xfrm>
            <a:custGeom>
              <a:avLst/>
              <a:gdLst/>
              <a:ahLst/>
              <a:rect l="l" t="t" r="r" b="b"/>
              <a:pathLst>
                <a:path fill="none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</a:path>
                <a:path stroke="0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  <a:lnTo>
                    <a:pt x="0" y="20158"/>
                  </a:lnTo>
                  <a:lnTo>
                    <a:pt x="775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30"/>
          <p:cNvSpPr/>
          <p:nvPr/>
        </p:nvSpPr>
        <p:spPr>
          <a:xfrm>
            <a:off x="5640840" y="3833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6714000" y="383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 flipH="1" rot="16200000">
            <a:off x="1787760" y="2487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 flipH="1" rot="16200000">
            <a:off x="1787760" y="170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0:40:31Z</dcterms:created>
  <dc:creator>levinn</dc:creator>
  <dc:description/>
  <dc:language>en-US</dc:language>
  <cp:lastModifiedBy>Luke Pearce</cp:lastModifiedBy>
  <dcterms:modified xsi:type="dcterms:W3CDTF">2018-06-05T10:19:34Z</dcterms:modified>
  <cp:revision>24</cp:revision>
  <dc:subject/>
  <dc:title>Slide 1</dc:title>
</cp:coreProperties>
</file>