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3A510-64FF-4895-9941-7ECB9BDC901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3663-BAC3-4A23-9C33-CF9A4001A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42932-B820-4406-8BF2-9C2DB9330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F11DE-9732-428D-8276-D25E28CB538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6644-7321-442B-9A53-0035278D1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4E2C-4187-4366-91D5-FC6A06106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67D0-BCC0-4A29-9378-986A9B98B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42A0-A872-487F-95AD-98679BAC8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6883-7F02-41EB-9FD5-4217630E2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BB26-9903-4DD6-9233-58FF20321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312D-87B4-411E-8C22-F5073A3DE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AAF4-D4FD-4169-ADE0-4D5FE774F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F8C3-D343-4D90-BB0E-40F1778BE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DA43-3A69-4619-BA88-F406E957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C2BF-5E08-455C-A784-C0E95E19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3ED6-B84F-466D-88CA-96B99C76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60B47-ED71-4EB1-9E8F-889D51FFCE9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184320" y="141120"/>
            <a:ext cx="100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Ang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6994080" y="1285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11</a:t>
            </a:r>
            <a:r>
              <a:rPr b="0" lang="en-GB" sz="1800" spc="-1" strike="noStrike" baseline="30000">
                <a:solidFill>
                  <a:srgbClr val="333399"/>
                </a:solidFill>
                <a:latin typeface="Arial"/>
              </a:rPr>
              <a:t>th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 January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1"/>
          <p:cNvSpPr/>
          <p:nvPr/>
        </p:nvSpPr>
        <p:spPr>
          <a:xfrm>
            <a:off x="2991240" y="3645000"/>
            <a:ext cx="290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ior Angles of a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872280" y="1341360"/>
            <a:ext cx="23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gles around a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7"/>
          <p:cNvSpPr/>
          <p:nvPr/>
        </p:nvSpPr>
        <p:spPr>
          <a:xfrm>
            <a:off x="4671360" y="1390680"/>
            <a:ext cx="34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gles ‘around a point’ on a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3"/>
          <p:cNvSpPr/>
          <p:nvPr/>
        </p:nvSpPr>
        <p:spPr>
          <a:xfrm>
            <a:off x="1046160" y="14436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Re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1186920" y="2949480"/>
            <a:ext cx="206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add up to 360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  <a:ea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a + b + c = 36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6443640" y="2701800"/>
            <a:ext cx="187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add up to 180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  <a:ea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0" lang="el-GR" sz="1800" spc="-1" strike="noStrike">
                <a:solidFill>
                  <a:srgbClr val="333399"/>
                </a:solidFill>
                <a:latin typeface="Arial"/>
              </a:rPr>
              <a:t>α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0" lang="el-GR" sz="1800" spc="-1" strike="noStrike">
                <a:solidFill>
                  <a:srgbClr val="333399"/>
                </a:solidFill>
                <a:latin typeface="Arial"/>
              </a:rPr>
              <a:t>β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0" lang="el-GR" sz="1800" spc="-1" strike="noStrike">
                <a:solidFill>
                  <a:srgbClr val="333399"/>
                </a:solidFill>
                <a:latin typeface="Arial"/>
              </a:rPr>
              <a:t>γ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 = 18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6"/>
          <p:cNvSpPr/>
          <p:nvPr/>
        </p:nvSpPr>
        <p:spPr>
          <a:xfrm>
            <a:off x="4788360" y="4502160"/>
            <a:ext cx="271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add up to 180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  <a:ea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  <a:ea typeface="Arial"/>
              </a:rPr>
              <a:t>a + b + c = 180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50"/>
          <p:cNvGrpSpPr/>
          <p:nvPr/>
        </p:nvGrpSpPr>
        <p:grpSpPr>
          <a:xfrm>
            <a:off x="3780000" y="4076640"/>
            <a:ext cx="1439640" cy="1440000"/>
            <a:chOff x="3780000" y="4076640"/>
            <a:chExt cx="1439640" cy="1440000"/>
          </a:xfrm>
        </p:grpSpPr>
        <p:sp>
          <p:nvSpPr>
            <p:cNvPr id="57" name="AutoShape 10"/>
            <p:cNvSpPr/>
            <p:nvPr/>
          </p:nvSpPr>
          <p:spPr>
            <a:xfrm>
              <a:off x="3780000" y="4076640"/>
              <a:ext cx="1439640" cy="1440000"/>
            </a:xfrm>
            <a:prstGeom prst="triangle">
              <a:avLst>
                <a:gd name="adj" fmla="val 2935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Arc 32"/>
            <p:cNvSpPr/>
            <p:nvPr/>
          </p:nvSpPr>
          <p:spPr>
            <a:xfrm>
              <a:off x="3809880" y="5272200"/>
              <a:ext cx="176400" cy="237960"/>
            </a:xfrm>
            <a:custGeom>
              <a:avLst/>
              <a:gdLst/>
              <a:ahLst/>
              <a:rect l="l" t="t" r="r" b="b"/>
              <a:pathLst>
                <a:path fill="none" w="21600" h="23799">
                  <a:moveTo>
                    <a:pt x="6312" y="-1"/>
                  </a:moveTo>
                  <a:cubicBezTo>
                    <a:pt x="15395" y="2775"/>
                    <a:pt x="21600" y="11158"/>
                    <a:pt x="21600" y="20657"/>
                  </a:cubicBezTo>
                  <a:cubicBezTo>
                    <a:pt x="21600" y="21708"/>
                    <a:pt x="21523" y="22758"/>
                    <a:pt x="21370" y="23799"/>
                  </a:cubicBezTo>
                </a:path>
                <a:path stroke="0" w="21600" h="23799">
                  <a:moveTo>
                    <a:pt x="6312" y="-1"/>
                  </a:moveTo>
                  <a:cubicBezTo>
                    <a:pt x="15395" y="2775"/>
                    <a:pt x="21600" y="11158"/>
                    <a:pt x="21600" y="20657"/>
                  </a:cubicBezTo>
                  <a:cubicBezTo>
                    <a:pt x="21600" y="21708"/>
                    <a:pt x="21523" y="22758"/>
                    <a:pt x="21370" y="23799"/>
                  </a:cubicBezTo>
                  <a:lnTo>
                    <a:pt x="0" y="20657"/>
                  </a:lnTo>
                  <a:lnTo>
                    <a:pt x="6312" y="-1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rc 33"/>
            <p:cNvSpPr/>
            <p:nvPr/>
          </p:nvSpPr>
          <p:spPr>
            <a:xfrm rot="5400000">
              <a:off x="4183920" y="4214160"/>
              <a:ext cx="147600" cy="311040"/>
            </a:xfrm>
            <a:custGeom>
              <a:avLst/>
              <a:gdLst/>
              <a:ahLst/>
              <a:rect l="l" t="t" r="r" b="b"/>
              <a:pathLst>
                <a:path fill="none" w="21600" h="28488">
                  <a:moveTo>
                    <a:pt x="14079" y="0"/>
                  </a:moveTo>
                  <a:cubicBezTo>
                    <a:pt x="18853" y="4103"/>
                    <a:pt x="21600" y="10085"/>
                    <a:pt x="21600" y="16381"/>
                  </a:cubicBezTo>
                  <a:cubicBezTo>
                    <a:pt x="21600" y="20696"/>
                    <a:pt x="20307" y="24913"/>
                    <a:pt x="17888" y="28488"/>
                  </a:cubicBezTo>
                </a:path>
                <a:path stroke="0" w="21600" h="28488">
                  <a:moveTo>
                    <a:pt x="14079" y="0"/>
                  </a:moveTo>
                  <a:cubicBezTo>
                    <a:pt x="18853" y="4103"/>
                    <a:pt x="21600" y="10085"/>
                    <a:pt x="21600" y="16381"/>
                  </a:cubicBezTo>
                  <a:cubicBezTo>
                    <a:pt x="21600" y="20696"/>
                    <a:pt x="20307" y="24913"/>
                    <a:pt x="17888" y="28488"/>
                  </a:cubicBezTo>
                  <a:lnTo>
                    <a:pt x="0" y="16381"/>
                  </a:lnTo>
                  <a:lnTo>
                    <a:pt x="14079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Arc 34"/>
            <p:cNvSpPr/>
            <p:nvPr/>
          </p:nvSpPr>
          <p:spPr>
            <a:xfrm flipH="1">
              <a:off x="4930920" y="5261040"/>
              <a:ext cx="147600" cy="255600"/>
            </a:xfrm>
            <a:custGeom>
              <a:avLst/>
              <a:gdLst/>
              <a:ahLst/>
              <a:rect l="l" t="t" r="r" b="b"/>
              <a:pathLst>
                <a:path fill="none" w="21600" h="23711">
                  <a:moveTo>
                    <a:pt x="6593" y="0"/>
                  </a:moveTo>
                  <a:cubicBezTo>
                    <a:pt x="15534" y="2866"/>
                    <a:pt x="21600" y="11180"/>
                    <a:pt x="21600" y="20569"/>
                  </a:cubicBezTo>
                  <a:cubicBezTo>
                    <a:pt x="21600" y="21620"/>
                    <a:pt x="21523" y="22670"/>
                    <a:pt x="21370" y="23711"/>
                  </a:cubicBezTo>
                </a:path>
                <a:path stroke="0" w="21600" h="23711">
                  <a:moveTo>
                    <a:pt x="6593" y="0"/>
                  </a:moveTo>
                  <a:cubicBezTo>
                    <a:pt x="15534" y="2866"/>
                    <a:pt x="21600" y="11180"/>
                    <a:pt x="21600" y="20569"/>
                  </a:cubicBezTo>
                  <a:cubicBezTo>
                    <a:pt x="21600" y="21620"/>
                    <a:pt x="21523" y="22670"/>
                    <a:pt x="21370" y="23711"/>
                  </a:cubicBezTo>
                  <a:lnTo>
                    <a:pt x="0" y="20569"/>
                  </a:lnTo>
                  <a:lnTo>
                    <a:pt x="6593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35"/>
            <p:cNvSpPr/>
            <p:nvPr/>
          </p:nvSpPr>
          <p:spPr>
            <a:xfrm>
              <a:off x="4116600" y="4357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36"/>
            <p:cNvSpPr/>
            <p:nvPr/>
          </p:nvSpPr>
          <p:spPr>
            <a:xfrm>
              <a:off x="3907080" y="5097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37"/>
            <p:cNvSpPr/>
            <p:nvPr/>
          </p:nvSpPr>
          <p:spPr>
            <a:xfrm>
              <a:off x="4678200" y="5097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48"/>
          <p:cNvGrpSpPr/>
          <p:nvPr/>
        </p:nvGrpSpPr>
        <p:grpSpPr>
          <a:xfrm>
            <a:off x="1779480" y="1774800"/>
            <a:ext cx="1071360" cy="1211400"/>
            <a:chOff x="1779480" y="1774800"/>
            <a:chExt cx="1071360" cy="1211400"/>
          </a:xfrm>
        </p:grpSpPr>
        <p:sp>
          <p:nvSpPr>
            <p:cNvPr id="65" name="Oval 12"/>
            <p:cNvSpPr/>
            <p:nvPr/>
          </p:nvSpPr>
          <p:spPr>
            <a:xfrm>
              <a:off x="2303640" y="2340000"/>
              <a:ext cx="7128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3"/>
            <p:cNvSpPr/>
            <p:nvPr/>
          </p:nvSpPr>
          <p:spPr>
            <a:xfrm>
              <a:off x="2340000" y="1774800"/>
              <a:ext cx="0" cy="57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rc 15"/>
            <p:cNvSpPr/>
            <p:nvPr/>
          </p:nvSpPr>
          <p:spPr>
            <a:xfrm>
              <a:off x="2052720" y="2098800"/>
              <a:ext cx="574560" cy="57456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21599" y="0"/>
                  </a:move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717"/>
                    <a:pt x="9598" y="65"/>
                    <a:pt x="21481" y="0"/>
                  </a:cubicBezTo>
                </a:path>
                <a:path stroke="0" w="43200" h="43200">
                  <a:moveTo>
                    <a:pt x="21599" y="0"/>
                  </a:move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717"/>
                    <a:pt x="9598" y="65"/>
                    <a:pt x="21481" y="0"/>
                  </a:cubicBezTo>
                  <a:lnTo>
                    <a:pt x="21600" y="21600"/>
                  </a:lnTo>
                  <a:lnTo>
                    <a:pt x="21599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38"/>
            <p:cNvSpPr/>
            <p:nvPr/>
          </p:nvSpPr>
          <p:spPr>
            <a:xfrm flipH="1">
              <a:off x="2336400" y="2362320"/>
              <a:ext cx="51444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39"/>
            <p:cNvSpPr/>
            <p:nvPr/>
          </p:nvSpPr>
          <p:spPr>
            <a:xfrm flipV="1">
              <a:off x="1943280" y="2371680"/>
              <a:ext cx="390240" cy="37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40"/>
            <p:cNvSpPr/>
            <p:nvPr/>
          </p:nvSpPr>
          <p:spPr>
            <a:xfrm>
              <a:off x="2456280" y="18493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41"/>
            <p:cNvSpPr/>
            <p:nvPr/>
          </p:nvSpPr>
          <p:spPr>
            <a:xfrm>
              <a:off x="2351520" y="2617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42"/>
            <p:cNvSpPr/>
            <p:nvPr/>
          </p:nvSpPr>
          <p:spPr>
            <a:xfrm>
              <a:off x="1779480" y="2017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49"/>
          <p:cNvGrpSpPr/>
          <p:nvPr/>
        </p:nvGrpSpPr>
        <p:grpSpPr>
          <a:xfrm>
            <a:off x="5143680" y="1928880"/>
            <a:ext cx="1990440" cy="731880"/>
            <a:chOff x="5143680" y="1928880"/>
            <a:chExt cx="1990440" cy="731880"/>
          </a:xfrm>
        </p:grpSpPr>
        <p:sp>
          <p:nvSpPr>
            <p:cNvPr id="74" name="Line 16"/>
            <p:cNvSpPr/>
            <p:nvPr/>
          </p:nvSpPr>
          <p:spPr>
            <a:xfrm>
              <a:off x="5143680" y="2622600"/>
              <a:ext cx="19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18"/>
            <p:cNvSpPr/>
            <p:nvPr/>
          </p:nvSpPr>
          <p:spPr>
            <a:xfrm>
              <a:off x="6100920" y="2589120"/>
              <a:ext cx="71280" cy="7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Arc 19"/>
            <p:cNvSpPr/>
            <p:nvPr/>
          </p:nvSpPr>
          <p:spPr>
            <a:xfrm flipH="1" rot="5400000">
              <a:off x="5953680" y="2108160"/>
              <a:ext cx="349200" cy="685800"/>
            </a:xfrm>
            <a:custGeom>
              <a:avLst/>
              <a:gdLst/>
              <a:ahLst/>
              <a:rect l="l" t="t" r="r" b="b"/>
              <a:pathLst>
                <a:path fill="none" w="22633" h="43200">
                  <a:moveTo>
                    <a:pt x="1032" y="0"/>
                  </a:moveTo>
                  <a:cubicBezTo>
                    <a:pt x="12962" y="0"/>
                    <a:pt x="22633" y="9670"/>
                    <a:pt x="22633" y="21600"/>
                  </a:cubicBezTo>
                  <a:cubicBezTo>
                    <a:pt x="22633" y="33529"/>
                    <a:pt x="12962" y="43200"/>
                    <a:pt x="1033" y="43200"/>
                  </a:cubicBezTo>
                  <a:cubicBezTo>
                    <a:pt x="688" y="43200"/>
                    <a:pt x="344" y="43191"/>
                    <a:pt x="-1" y="43175"/>
                  </a:cubicBezTo>
                </a:path>
                <a:path stroke="0" w="22633" h="43200">
                  <a:moveTo>
                    <a:pt x="1032" y="0"/>
                  </a:moveTo>
                  <a:cubicBezTo>
                    <a:pt x="12962" y="0"/>
                    <a:pt x="22633" y="9670"/>
                    <a:pt x="22633" y="21600"/>
                  </a:cubicBezTo>
                  <a:cubicBezTo>
                    <a:pt x="22633" y="33529"/>
                    <a:pt x="12962" y="43200"/>
                    <a:pt x="1033" y="43200"/>
                  </a:cubicBezTo>
                  <a:cubicBezTo>
                    <a:pt x="688" y="43200"/>
                    <a:pt x="344" y="43191"/>
                    <a:pt x="-1" y="43175"/>
                  </a:cubicBezTo>
                  <a:lnTo>
                    <a:pt x="1033" y="21600"/>
                  </a:lnTo>
                  <a:lnTo>
                    <a:pt x="1032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43"/>
            <p:cNvSpPr/>
            <p:nvPr/>
          </p:nvSpPr>
          <p:spPr>
            <a:xfrm flipH="1">
              <a:off x="6136920" y="2200320"/>
              <a:ext cx="399960" cy="42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44"/>
            <p:cNvSpPr/>
            <p:nvPr/>
          </p:nvSpPr>
          <p:spPr>
            <a:xfrm>
              <a:off x="5838840" y="2139840"/>
              <a:ext cx="295200" cy="47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45"/>
            <p:cNvSpPr/>
            <p:nvPr/>
          </p:nvSpPr>
          <p:spPr>
            <a:xfrm>
              <a:off x="6414840" y="224640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46"/>
            <p:cNvSpPr/>
            <p:nvPr/>
          </p:nvSpPr>
          <p:spPr>
            <a:xfrm>
              <a:off x="6015600" y="19288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47"/>
            <p:cNvSpPr/>
            <p:nvPr/>
          </p:nvSpPr>
          <p:spPr>
            <a:xfrm>
              <a:off x="5538600" y="22431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8"/>
          <p:cNvSpPr/>
          <p:nvPr/>
        </p:nvSpPr>
        <p:spPr>
          <a:xfrm>
            <a:off x="5151600" y="188280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ternate Ang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1"/>
          <p:cNvSpPr/>
          <p:nvPr/>
        </p:nvSpPr>
        <p:spPr>
          <a:xfrm>
            <a:off x="1046160" y="14436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Re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8"/>
          <p:cNvSpPr/>
          <p:nvPr/>
        </p:nvSpPr>
        <p:spPr>
          <a:xfrm>
            <a:off x="2576880" y="3522600"/>
            <a:ext cx="24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rresponding Ang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0"/>
          <p:cNvSpPr/>
          <p:nvPr/>
        </p:nvSpPr>
        <p:spPr>
          <a:xfrm>
            <a:off x="6396120" y="344160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are eq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1"/>
          <p:cNvSpPr/>
          <p:nvPr/>
        </p:nvSpPr>
        <p:spPr>
          <a:xfrm>
            <a:off x="3890880" y="501012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are eq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4"/>
          <p:cNvSpPr/>
          <p:nvPr/>
        </p:nvSpPr>
        <p:spPr>
          <a:xfrm>
            <a:off x="6660000" y="24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5"/>
          <p:cNvSpPr/>
          <p:nvPr/>
        </p:nvSpPr>
        <p:spPr>
          <a:xfrm>
            <a:off x="6733080" y="2954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33"/>
          <p:cNvGrpSpPr/>
          <p:nvPr/>
        </p:nvGrpSpPr>
        <p:grpSpPr>
          <a:xfrm>
            <a:off x="3095640" y="3713040"/>
            <a:ext cx="2303280" cy="1728720"/>
            <a:chOff x="3095640" y="3713040"/>
            <a:chExt cx="2303280" cy="1728720"/>
          </a:xfrm>
        </p:grpSpPr>
        <p:sp>
          <p:nvSpPr>
            <p:cNvPr id="90" name="Line 23"/>
            <p:cNvSpPr/>
            <p:nvPr/>
          </p:nvSpPr>
          <p:spPr>
            <a:xfrm>
              <a:off x="3095640" y="4144680"/>
              <a:ext cx="23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24"/>
            <p:cNvSpPr/>
            <p:nvPr/>
          </p:nvSpPr>
          <p:spPr>
            <a:xfrm>
              <a:off x="3095640" y="4937040"/>
              <a:ext cx="23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25"/>
            <p:cNvSpPr/>
            <p:nvPr/>
          </p:nvSpPr>
          <p:spPr>
            <a:xfrm flipV="1">
              <a:off x="3311280" y="3713040"/>
              <a:ext cx="1800000" cy="17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rc 26"/>
            <p:cNvSpPr/>
            <p:nvPr/>
          </p:nvSpPr>
          <p:spPr>
            <a:xfrm>
              <a:off x="4093920" y="4689360"/>
              <a:ext cx="70920" cy="247680"/>
            </a:xfrm>
            <a:custGeom>
              <a:avLst/>
              <a:gdLst/>
              <a:ahLst/>
              <a:rect l="l" t="t" r="r" b="b"/>
              <a:pathLst>
                <a:path fill="none" w="21600" h="2474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651"/>
                    <a:pt x="21523" y="23701"/>
                    <a:pt x="21370" y="24742"/>
                  </a:cubicBezTo>
                </a:path>
                <a:path stroke="0" w="21600" h="2474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651"/>
                    <a:pt x="21523" y="23701"/>
                    <a:pt x="21370" y="24742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rc 32"/>
            <p:cNvSpPr/>
            <p:nvPr/>
          </p:nvSpPr>
          <p:spPr>
            <a:xfrm>
              <a:off x="4920840" y="3897000"/>
              <a:ext cx="71280" cy="247680"/>
            </a:xfrm>
            <a:custGeom>
              <a:avLst/>
              <a:gdLst/>
              <a:ahLst/>
              <a:rect l="l" t="t" r="r" b="b"/>
              <a:pathLst>
                <a:path fill="none" w="21600" h="2474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651"/>
                    <a:pt x="21523" y="23701"/>
                    <a:pt x="21370" y="24742"/>
                  </a:cubicBezTo>
                </a:path>
                <a:path stroke="0" w="21600" h="2474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651"/>
                    <a:pt x="21523" y="23701"/>
                    <a:pt x="21370" y="24742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Rectangle 36"/>
          <p:cNvSpPr/>
          <p:nvPr/>
        </p:nvSpPr>
        <p:spPr>
          <a:xfrm>
            <a:off x="4177080" y="4551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7"/>
          <p:cNvSpPr/>
          <p:nvPr/>
        </p:nvSpPr>
        <p:spPr>
          <a:xfrm>
            <a:off x="5050080" y="3776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55"/>
          <p:cNvGrpSpPr/>
          <p:nvPr/>
        </p:nvGrpSpPr>
        <p:grpSpPr>
          <a:xfrm>
            <a:off x="5691240" y="2073240"/>
            <a:ext cx="2303280" cy="1728720"/>
            <a:chOff x="5691240" y="2073240"/>
            <a:chExt cx="2303280" cy="1728720"/>
          </a:xfrm>
        </p:grpSpPr>
        <p:grpSp>
          <p:nvGrpSpPr>
            <p:cNvPr id="98" name="Group 2"/>
            <p:cNvGrpSpPr/>
            <p:nvPr/>
          </p:nvGrpSpPr>
          <p:grpSpPr>
            <a:xfrm>
              <a:off x="5691240" y="2073240"/>
              <a:ext cx="2303280" cy="1728720"/>
              <a:chOff x="5691240" y="2073240"/>
              <a:chExt cx="2303280" cy="1728720"/>
            </a:xfrm>
          </p:grpSpPr>
          <p:sp>
            <p:nvSpPr>
              <p:cNvPr id="99" name="Line 3"/>
              <p:cNvSpPr/>
              <p:nvPr/>
            </p:nvSpPr>
            <p:spPr>
              <a:xfrm>
                <a:off x="5691240" y="2504880"/>
                <a:ext cx="230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4"/>
              <p:cNvSpPr/>
              <p:nvPr/>
            </p:nvSpPr>
            <p:spPr>
              <a:xfrm>
                <a:off x="5691240" y="3296880"/>
                <a:ext cx="230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5"/>
              <p:cNvSpPr/>
              <p:nvPr/>
            </p:nvSpPr>
            <p:spPr>
              <a:xfrm flipV="1">
                <a:off x="5906880" y="2073240"/>
                <a:ext cx="1800000" cy="172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Arc 6"/>
              <p:cNvSpPr/>
              <p:nvPr/>
            </p:nvSpPr>
            <p:spPr>
              <a:xfrm>
                <a:off x="6686280" y="3049200"/>
                <a:ext cx="71280" cy="247320"/>
              </a:xfrm>
              <a:custGeom>
                <a:avLst/>
                <a:gdLst/>
                <a:ahLst/>
                <a:rect l="l" t="t" r="r" b="b"/>
                <a:pathLst>
                  <a:path fill="none" w="21600" h="24742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2651"/>
                      <a:pt x="21523" y="23701"/>
                      <a:pt x="21370" y="24742"/>
                    </a:cubicBezTo>
                  </a:path>
                  <a:path stroke="0" w="21600" h="24742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2651"/>
                      <a:pt x="21523" y="23701"/>
                      <a:pt x="21370" y="24742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Arc 7"/>
              <p:cNvSpPr/>
              <p:nvPr/>
            </p:nvSpPr>
            <p:spPr>
              <a:xfrm flipH="1" flipV="1">
                <a:off x="6987960" y="2505600"/>
                <a:ext cx="71280" cy="206280"/>
              </a:xfrm>
              <a:custGeom>
                <a:avLst/>
                <a:gdLst/>
                <a:ahLst/>
                <a:rect l="l" t="t" r="r" b="b"/>
                <a:pathLst>
                  <a:path fill="none" w="21600" h="20621">
                    <a:moveTo>
                      <a:pt x="6429" y="0"/>
                    </a:moveTo>
                    <a:cubicBezTo>
                      <a:pt x="15453" y="2814"/>
                      <a:pt x="21600" y="11168"/>
                      <a:pt x="21600" y="20621"/>
                    </a:cubicBezTo>
                  </a:path>
                  <a:path stroke="0" w="21600" h="20621">
                    <a:moveTo>
                      <a:pt x="6429" y="0"/>
                    </a:moveTo>
                    <a:cubicBezTo>
                      <a:pt x="15453" y="2814"/>
                      <a:pt x="21600" y="11168"/>
                      <a:pt x="21600" y="20621"/>
                    </a:cubicBezTo>
                    <a:lnTo>
                      <a:pt x="0" y="20621"/>
                    </a:lnTo>
                    <a:lnTo>
                      <a:pt x="6429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" name="Rectangle 42"/>
            <p:cNvSpPr/>
            <p:nvPr/>
          </p:nvSpPr>
          <p:spPr>
            <a:xfrm flipH="1" rot="16200000">
              <a:off x="7540920" y="31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43"/>
            <p:cNvSpPr/>
            <p:nvPr/>
          </p:nvSpPr>
          <p:spPr>
            <a:xfrm flipH="1" rot="16200000">
              <a:off x="7540920" y="2322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Rectangle 44"/>
          <p:cNvSpPr/>
          <p:nvPr/>
        </p:nvSpPr>
        <p:spPr>
          <a:xfrm flipH="1" rot="16200000">
            <a:off x="3242880" y="4751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5"/>
          <p:cNvSpPr/>
          <p:nvPr/>
        </p:nvSpPr>
        <p:spPr>
          <a:xfrm flipH="1" rot="16200000">
            <a:off x="3242880" y="3957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6"/>
          <p:cNvSpPr/>
          <p:nvPr/>
        </p:nvSpPr>
        <p:spPr>
          <a:xfrm>
            <a:off x="1001880" y="95868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pposite Ang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7"/>
          <p:cNvSpPr/>
          <p:nvPr/>
        </p:nvSpPr>
        <p:spPr>
          <a:xfrm>
            <a:off x="1965240" y="232560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are eq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48"/>
          <p:cNvGrpSpPr/>
          <p:nvPr/>
        </p:nvGrpSpPr>
        <p:grpSpPr>
          <a:xfrm>
            <a:off x="1501920" y="1461600"/>
            <a:ext cx="1944720" cy="1081080"/>
            <a:chOff x="1501920" y="1461600"/>
            <a:chExt cx="1944720" cy="1081080"/>
          </a:xfrm>
        </p:grpSpPr>
        <p:sp>
          <p:nvSpPr>
            <p:cNvPr id="111" name="Line 49"/>
            <p:cNvSpPr/>
            <p:nvPr/>
          </p:nvSpPr>
          <p:spPr>
            <a:xfrm flipV="1">
              <a:off x="1501920" y="1461600"/>
              <a:ext cx="187200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50"/>
            <p:cNvSpPr/>
            <p:nvPr/>
          </p:nvSpPr>
          <p:spPr>
            <a:xfrm>
              <a:off x="1573560" y="1535040"/>
              <a:ext cx="187308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rc 51"/>
            <p:cNvSpPr/>
            <p:nvPr/>
          </p:nvSpPr>
          <p:spPr>
            <a:xfrm rot="708600">
              <a:off x="2727720" y="1821960"/>
              <a:ext cx="142920" cy="272880"/>
            </a:xfrm>
            <a:custGeom>
              <a:avLst/>
              <a:gdLst/>
              <a:ahLst/>
              <a:rect l="l" t="t" r="r" b="b"/>
              <a:pathLst>
                <a:path fill="none" w="21600" h="36070">
                  <a:moveTo>
                    <a:pt x="1488" y="0"/>
                  </a:moveTo>
                  <a:cubicBezTo>
                    <a:pt x="12813" y="782"/>
                    <a:pt x="21600" y="10197"/>
                    <a:pt x="21600" y="21549"/>
                  </a:cubicBezTo>
                  <a:cubicBezTo>
                    <a:pt x="21600" y="26918"/>
                    <a:pt x="19600" y="32094"/>
                    <a:pt x="15990" y="36069"/>
                  </a:cubicBezTo>
                </a:path>
                <a:path stroke="0" w="21600" h="36070">
                  <a:moveTo>
                    <a:pt x="1488" y="0"/>
                  </a:moveTo>
                  <a:cubicBezTo>
                    <a:pt x="12813" y="782"/>
                    <a:pt x="21600" y="10197"/>
                    <a:pt x="21600" y="21549"/>
                  </a:cubicBezTo>
                  <a:cubicBezTo>
                    <a:pt x="21600" y="26918"/>
                    <a:pt x="19600" y="32094"/>
                    <a:pt x="15990" y="36069"/>
                  </a:cubicBezTo>
                  <a:lnTo>
                    <a:pt x="0" y="21549"/>
                  </a:lnTo>
                  <a:lnTo>
                    <a:pt x="1488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rc 52"/>
            <p:cNvSpPr/>
            <p:nvPr/>
          </p:nvSpPr>
          <p:spPr>
            <a:xfrm flipH="1" rot="20891400">
              <a:off x="2150640" y="1833480"/>
              <a:ext cx="142920" cy="276120"/>
            </a:xfrm>
            <a:custGeom>
              <a:avLst/>
              <a:gdLst/>
              <a:ahLst/>
              <a:rect l="l" t="t" r="r" b="b"/>
              <a:pathLst>
                <a:path fill="none" w="21600" h="36617">
                  <a:moveTo>
                    <a:pt x="7759" y="0"/>
                  </a:moveTo>
                  <a:cubicBezTo>
                    <a:pt x="16098" y="3210"/>
                    <a:pt x="21600" y="11222"/>
                    <a:pt x="21600" y="20158"/>
                  </a:cubicBezTo>
                  <a:cubicBezTo>
                    <a:pt x="21600" y="26495"/>
                    <a:pt x="18816" y="32512"/>
                    <a:pt x="13987" y="36616"/>
                  </a:cubicBezTo>
                </a:path>
                <a:path stroke="0" w="21600" h="36617">
                  <a:moveTo>
                    <a:pt x="7759" y="0"/>
                  </a:moveTo>
                  <a:cubicBezTo>
                    <a:pt x="16098" y="3210"/>
                    <a:pt x="21600" y="11222"/>
                    <a:pt x="21600" y="20158"/>
                  </a:cubicBezTo>
                  <a:cubicBezTo>
                    <a:pt x="21600" y="26495"/>
                    <a:pt x="18816" y="32512"/>
                    <a:pt x="13987" y="36616"/>
                  </a:cubicBezTo>
                  <a:lnTo>
                    <a:pt x="0" y="20158"/>
                  </a:lnTo>
                  <a:lnTo>
                    <a:pt x="7759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Rectangle 53"/>
          <p:cNvSpPr/>
          <p:nvPr/>
        </p:nvSpPr>
        <p:spPr>
          <a:xfrm>
            <a:off x="1849680" y="1795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4"/>
          <p:cNvSpPr/>
          <p:nvPr/>
        </p:nvSpPr>
        <p:spPr>
          <a:xfrm>
            <a:off x="2922840" y="1792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Line 5"/>
          <p:cNvSpPr/>
          <p:nvPr/>
        </p:nvSpPr>
        <p:spPr>
          <a:xfrm flipH="1">
            <a:off x="2274840" y="3211560"/>
            <a:ext cx="171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687960" y="836640"/>
            <a:ext cx="283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Now we combine these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Examp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5639040" y="2006640"/>
            <a:ext cx="234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Find angle </a:t>
            </a:r>
            <a:r>
              <a:rPr b="0" lang="el-GR" sz="1800" spc="-1" strike="noStrike">
                <a:solidFill>
                  <a:srgbClr val="333399"/>
                </a:solidFill>
                <a:latin typeface="Arial"/>
                <a:ea typeface="Arial"/>
              </a:rPr>
              <a:t>α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  <a:ea typeface="Arial"/>
              </a:rPr>
              <a:t>   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  <a:ea typeface="Arial"/>
              </a:rPr>
              <a:t>giving your reas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0"/>
          <p:cNvSpPr/>
          <p:nvPr/>
        </p:nvSpPr>
        <p:spPr>
          <a:xfrm>
            <a:off x="3732120" y="1771560"/>
            <a:ext cx="1440000" cy="1440000"/>
          </a:xfrm>
          <a:prstGeom prst="triangle">
            <a:avLst>
              <a:gd name="adj" fmla="val 2935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rc 11"/>
          <p:cNvSpPr/>
          <p:nvPr/>
        </p:nvSpPr>
        <p:spPr>
          <a:xfrm flipH="1">
            <a:off x="3440880" y="2919240"/>
            <a:ext cx="536760" cy="520920"/>
          </a:xfrm>
          <a:custGeom>
            <a:avLst/>
            <a:gdLst/>
            <a:ahLst/>
            <a:rect l="l" t="t" r="r" b="b"/>
            <a:pathLst>
              <a:path fill="none" w="19821" h="20657">
                <a:moveTo>
                  <a:pt x="6312" y="-1"/>
                </a:moveTo>
                <a:cubicBezTo>
                  <a:pt x="12366" y="1849"/>
                  <a:pt x="17304" y="6262"/>
                  <a:pt x="19820" y="12072"/>
                </a:cubicBezTo>
              </a:path>
              <a:path stroke="0" w="19821" h="20657">
                <a:moveTo>
                  <a:pt x="6312" y="-1"/>
                </a:moveTo>
                <a:cubicBezTo>
                  <a:pt x="12366" y="1849"/>
                  <a:pt x="17304" y="6262"/>
                  <a:pt x="19820" y="12072"/>
                </a:cubicBezTo>
                <a:lnTo>
                  <a:pt x="0" y="20657"/>
                </a:lnTo>
                <a:lnTo>
                  <a:pt x="6312" y="-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rc 12"/>
          <p:cNvSpPr/>
          <p:nvPr/>
        </p:nvSpPr>
        <p:spPr>
          <a:xfrm rot="5400000">
            <a:off x="4135680" y="1908720"/>
            <a:ext cx="147600" cy="311400"/>
          </a:xfrm>
          <a:custGeom>
            <a:avLst/>
            <a:gdLst/>
            <a:ahLst/>
            <a:rect l="l" t="t" r="r" b="b"/>
            <a:pathLst>
              <a:path fill="none" w="21600" h="28488">
                <a:moveTo>
                  <a:pt x="14079" y="0"/>
                </a:moveTo>
                <a:cubicBezTo>
                  <a:pt x="18853" y="4103"/>
                  <a:pt x="21600" y="10085"/>
                  <a:pt x="21600" y="16381"/>
                </a:cubicBezTo>
                <a:cubicBezTo>
                  <a:pt x="21600" y="20696"/>
                  <a:pt x="20307" y="24913"/>
                  <a:pt x="17888" y="28488"/>
                </a:cubicBezTo>
              </a:path>
              <a:path stroke="0" w="21600" h="28488">
                <a:moveTo>
                  <a:pt x="14079" y="0"/>
                </a:moveTo>
                <a:cubicBezTo>
                  <a:pt x="18853" y="4103"/>
                  <a:pt x="21600" y="10085"/>
                  <a:pt x="21600" y="16381"/>
                </a:cubicBezTo>
                <a:cubicBezTo>
                  <a:pt x="21600" y="20696"/>
                  <a:pt x="20307" y="24913"/>
                  <a:pt x="17888" y="28488"/>
                </a:cubicBezTo>
                <a:lnTo>
                  <a:pt x="0" y="16381"/>
                </a:lnTo>
                <a:lnTo>
                  <a:pt x="14079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rc 13"/>
          <p:cNvSpPr/>
          <p:nvPr/>
        </p:nvSpPr>
        <p:spPr>
          <a:xfrm flipH="1">
            <a:off x="4883040" y="2955960"/>
            <a:ext cx="147600" cy="255600"/>
          </a:xfrm>
          <a:custGeom>
            <a:avLst/>
            <a:gdLst/>
            <a:ahLst/>
            <a:rect l="l" t="t" r="r" b="b"/>
            <a:pathLst>
              <a:path fill="none" w="21600" h="23711">
                <a:moveTo>
                  <a:pt x="6593" y="0"/>
                </a:moveTo>
                <a:cubicBezTo>
                  <a:pt x="15534" y="2866"/>
                  <a:pt x="21600" y="11180"/>
                  <a:pt x="21600" y="20569"/>
                </a:cubicBezTo>
                <a:cubicBezTo>
                  <a:pt x="21600" y="21620"/>
                  <a:pt x="21523" y="22670"/>
                  <a:pt x="21370" y="23711"/>
                </a:cubicBezTo>
              </a:path>
              <a:path stroke="0" w="21600" h="23711">
                <a:moveTo>
                  <a:pt x="6593" y="0"/>
                </a:moveTo>
                <a:cubicBezTo>
                  <a:pt x="15534" y="2866"/>
                  <a:pt x="21600" y="11180"/>
                  <a:pt x="21600" y="20569"/>
                </a:cubicBezTo>
                <a:cubicBezTo>
                  <a:pt x="21600" y="21620"/>
                  <a:pt x="21523" y="22670"/>
                  <a:pt x="21370" y="23711"/>
                </a:cubicBezTo>
                <a:lnTo>
                  <a:pt x="0" y="20569"/>
                </a:lnTo>
                <a:lnTo>
                  <a:pt x="6593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3994920" y="210996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5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6"/>
          <p:cNvSpPr/>
          <p:nvPr/>
        </p:nvSpPr>
        <p:spPr>
          <a:xfrm>
            <a:off x="4630320" y="279252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7"/>
          <p:cNvSpPr/>
          <p:nvPr/>
        </p:nvSpPr>
        <p:spPr>
          <a:xfrm>
            <a:off x="3033360" y="27543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25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8"/>
          <p:cNvSpPr/>
          <p:nvPr/>
        </p:nvSpPr>
        <p:spPr>
          <a:xfrm>
            <a:off x="5142240" y="3186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9"/>
          <p:cNvSpPr/>
          <p:nvPr/>
        </p:nvSpPr>
        <p:spPr>
          <a:xfrm>
            <a:off x="3576960" y="3186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0"/>
          <p:cNvSpPr/>
          <p:nvPr/>
        </p:nvSpPr>
        <p:spPr>
          <a:xfrm>
            <a:off x="1954440" y="3186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1"/>
          <p:cNvSpPr/>
          <p:nvPr/>
        </p:nvSpPr>
        <p:spPr>
          <a:xfrm>
            <a:off x="3964320" y="1440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2"/>
          <p:cNvSpPr/>
          <p:nvPr/>
        </p:nvSpPr>
        <p:spPr>
          <a:xfrm>
            <a:off x="1065960" y="3994200"/>
            <a:ext cx="7948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gle ACB = 180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° - 75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°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angles on a straight line add up to 180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 55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gl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= 180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° - 75° - 55°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angles in a triangle add up to 180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Angle </a:t>
            </a:r>
            <a:r>
              <a:rPr b="0" lang="el-GR" sz="1800" spc="-1" strike="noStrike" u="sng">
                <a:solidFill>
                  <a:srgbClr val="000000"/>
                </a:solidFill>
                <a:uFillTx/>
                <a:latin typeface="Arial"/>
              </a:rPr>
              <a:t>α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   = 5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rc 26"/>
          <p:cNvSpPr/>
          <p:nvPr/>
        </p:nvSpPr>
        <p:spPr>
          <a:xfrm>
            <a:off x="3762360" y="2967120"/>
            <a:ext cx="176400" cy="237960"/>
          </a:xfrm>
          <a:custGeom>
            <a:avLst/>
            <a:gdLst/>
            <a:ahLst/>
            <a:rect l="l" t="t" r="r" b="b"/>
            <a:pathLst>
              <a:path fill="none" w="21600" h="23799">
                <a:moveTo>
                  <a:pt x="6312" y="-1"/>
                </a:moveTo>
                <a:cubicBezTo>
                  <a:pt x="15395" y="2775"/>
                  <a:pt x="21600" y="11158"/>
                  <a:pt x="21600" y="20657"/>
                </a:cubicBezTo>
                <a:cubicBezTo>
                  <a:pt x="21600" y="21708"/>
                  <a:pt x="21523" y="22758"/>
                  <a:pt x="21370" y="23799"/>
                </a:cubicBezTo>
              </a:path>
              <a:path stroke="0" w="21600" h="23799">
                <a:moveTo>
                  <a:pt x="6312" y="-1"/>
                </a:moveTo>
                <a:cubicBezTo>
                  <a:pt x="15395" y="2775"/>
                  <a:pt x="21600" y="11158"/>
                  <a:pt x="21600" y="20657"/>
                </a:cubicBezTo>
                <a:cubicBezTo>
                  <a:pt x="21600" y="21708"/>
                  <a:pt x="21523" y="22758"/>
                  <a:pt x="21370" y="23799"/>
                </a:cubicBezTo>
                <a:lnTo>
                  <a:pt x="0" y="20657"/>
                </a:lnTo>
                <a:lnTo>
                  <a:pt x="6312" y="-1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2"/>
          <p:cNvSpPr/>
          <p:nvPr/>
        </p:nvSpPr>
        <p:spPr>
          <a:xfrm>
            <a:off x="3871080" y="281772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55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3"/>
          <p:cNvSpPr/>
          <p:nvPr/>
        </p:nvSpPr>
        <p:spPr>
          <a:xfrm>
            <a:off x="687960" y="836640"/>
            <a:ext cx="283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Now we combine these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Exampl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5639040" y="2006640"/>
            <a:ext cx="234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Find angle </a:t>
            </a:r>
            <a:r>
              <a:rPr b="0" lang="el-GR" sz="1800" spc="-1" strike="noStrike">
                <a:solidFill>
                  <a:srgbClr val="333399"/>
                </a:solidFill>
                <a:latin typeface="Arial"/>
                <a:ea typeface="Arial"/>
              </a:rPr>
              <a:t>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  <a:ea typeface="Arial"/>
              </a:rPr>
              <a:t>   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  <a:ea typeface="Arial"/>
              </a:rPr>
              <a:t>giving your reas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6"/>
          <p:cNvSpPr/>
          <p:nvPr/>
        </p:nvSpPr>
        <p:spPr>
          <a:xfrm>
            <a:off x="1037520" y="3994200"/>
            <a:ext cx="7948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gle ABE = 180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° - 90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° - 32°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angles on a straight line add up to 180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 58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gl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= angle AB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alternate angles are equ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Angle </a:t>
            </a:r>
            <a:r>
              <a:rPr b="0" lang="el-GR" sz="1800" spc="-1" strike="noStrike" u="sng">
                <a:solidFill>
                  <a:srgbClr val="000000"/>
                </a:solidFill>
                <a:uFillTx/>
                <a:latin typeface="Arial"/>
              </a:rPr>
              <a:t>θ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   = 58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29"/>
          <p:cNvGrpSpPr/>
          <p:nvPr/>
        </p:nvGrpSpPr>
        <p:grpSpPr>
          <a:xfrm>
            <a:off x="2547720" y="1601280"/>
            <a:ext cx="2904840" cy="1805400"/>
            <a:chOff x="2547720" y="1601280"/>
            <a:chExt cx="2904840" cy="1805400"/>
          </a:xfrm>
        </p:grpSpPr>
        <p:sp>
          <p:nvSpPr>
            <p:cNvPr id="138" name="Line 2"/>
            <p:cNvSpPr/>
            <p:nvPr/>
          </p:nvSpPr>
          <p:spPr>
            <a:xfrm flipH="1" flipV="1">
              <a:off x="3817800" y="1601280"/>
              <a:ext cx="578160" cy="5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rc 8"/>
            <p:cNvSpPr/>
            <p:nvPr/>
          </p:nvSpPr>
          <p:spPr>
            <a:xfrm flipH="1">
              <a:off x="4082400" y="1927080"/>
              <a:ext cx="119160" cy="189000"/>
            </a:xfrm>
            <a:custGeom>
              <a:avLst/>
              <a:gdLst/>
              <a:ahLst/>
              <a:rect l="l" t="t" r="r" b="b"/>
              <a:pathLst>
                <a:path fill="none" w="21600" h="23711">
                  <a:moveTo>
                    <a:pt x="6593" y="0"/>
                  </a:moveTo>
                  <a:cubicBezTo>
                    <a:pt x="15534" y="2866"/>
                    <a:pt x="21600" y="11180"/>
                    <a:pt x="21600" y="20569"/>
                  </a:cubicBezTo>
                  <a:cubicBezTo>
                    <a:pt x="21600" y="21620"/>
                    <a:pt x="21523" y="22670"/>
                    <a:pt x="21370" y="23711"/>
                  </a:cubicBezTo>
                </a:path>
                <a:path stroke="0" w="21600" h="23711">
                  <a:moveTo>
                    <a:pt x="6593" y="0"/>
                  </a:moveTo>
                  <a:cubicBezTo>
                    <a:pt x="15534" y="2866"/>
                    <a:pt x="21600" y="11180"/>
                    <a:pt x="21600" y="20569"/>
                  </a:cubicBezTo>
                  <a:cubicBezTo>
                    <a:pt x="21600" y="21620"/>
                    <a:pt x="21523" y="22670"/>
                    <a:pt x="21370" y="23711"/>
                  </a:cubicBezTo>
                  <a:lnTo>
                    <a:pt x="0" y="20569"/>
                  </a:lnTo>
                  <a:lnTo>
                    <a:pt x="6593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1"/>
            <p:cNvSpPr/>
            <p:nvPr/>
          </p:nvSpPr>
          <p:spPr>
            <a:xfrm>
              <a:off x="3658320" y="1763640"/>
              <a:ext cx="52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2"/>
            <p:cNvSpPr/>
            <p:nvPr/>
          </p:nvSpPr>
          <p:spPr>
            <a:xfrm>
              <a:off x="2560680" y="19098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3"/>
            <p:cNvSpPr/>
            <p:nvPr/>
          </p:nvSpPr>
          <p:spPr>
            <a:xfrm>
              <a:off x="5100840" y="19288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4"/>
            <p:cNvSpPr/>
            <p:nvPr/>
          </p:nvSpPr>
          <p:spPr>
            <a:xfrm>
              <a:off x="5107320" y="27003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5"/>
            <p:cNvSpPr/>
            <p:nvPr/>
          </p:nvSpPr>
          <p:spPr>
            <a:xfrm>
              <a:off x="4287960" y="20779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19"/>
            <p:cNvSpPr/>
            <p:nvPr/>
          </p:nvSpPr>
          <p:spPr>
            <a:xfrm>
              <a:off x="2830680" y="2109960"/>
              <a:ext cx="23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0"/>
            <p:cNvSpPr/>
            <p:nvPr/>
          </p:nvSpPr>
          <p:spPr>
            <a:xfrm>
              <a:off x="2830680" y="2901960"/>
              <a:ext cx="23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1"/>
            <p:cNvSpPr/>
            <p:nvPr/>
          </p:nvSpPr>
          <p:spPr>
            <a:xfrm flipV="1">
              <a:off x="3046320" y="1677960"/>
              <a:ext cx="1800360" cy="17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rc 22"/>
            <p:cNvSpPr/>
            <p:nvPr/>
          </p:nvSpPr>
          <p:spPr>
            <a:xfrm>
              <a:off x="3825720" y="2654280"/>
              <a:ext cx="71640" cy="247680"/>
            </a:xfrm>
            <a:custGeom>
              <a:avLst/>
              <a:gdLst/>
              <a:ahLst/>
              <a:rect l="l" t="t" r="r" b="b"/>
              <a:pathLst>
                <a:path fill="none" w="21600" h="2474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651"/>
                    <a:pt x="21523" y="23701"/>
                    <a:pt x="21370" y="24742"/>
                  </a:cubicBezTo>
                </a:path>
                <a:path stroke="0" w="21600" h="2474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651"/>
                    <a:pt x="21523" y="23701"/>
                    <a:pt x="21370" y="24742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24"/>
            <p:cNvSpPr/>
            <p:nvPr/>
          </p:nvSpPr>
          <p:spPr>
            <a:xfrm>
              <a:off x="3907080" y="2519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26"/>
            <p:cNvSpPr/>
            <p:nvPr/>
          </p:nvSpPr>
          <p:spPr>
            <a:xfrm rot="13623600">
              <a:off x="4333680" y="1933200"/>
              <a:ext cx="1332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27"/>
            <p:cNvSpPr/>
            <p:nvPr/>
          </p:nvSpPr>
          <p:spPr>
            <a:xfrm>
              <a:off x="3484800" y="28782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28"/>
            <p:cNvSpPr/>
            <p:nvPr/>
          </p:nvSpPr>
          <p:spPr>
            <a:xfrm>
              <a:off x="2547720" y="271296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Arc 35"/>
          <p:cNvSpPr/>
          <p:nvPr/>
        </p:nvSpPr>
        <p:spPr>
          <a:xfrm flipH="1" flipV="1">
            <a:off x="4083120" y="2115360"/>
            <a:ext cx="115920" cy="206280"/>
          </a:xfrm>
          <a:custGeom>
            <a:avLst/>
            <a:gdLst/>
            <a:ahLst/>
            <a:rect l="l" t="t" r="r" b="b"/>
            <a:pathLst>
              <a:path fill="none" w="21600" h="20621">
                <a:moveTo>
                  <a:pt x="6429" y="0"/>
                </a:moveTo>
                <a:cubicBezTo>
                  <a:pt x="15453" y="2814"/>
                  <a:pt x="21600" y="11168"/>
                  <a:pt x="21600" y="20621"/>
                </a:cubicBezTo>
              </a:path>
              <a:path stroke="0" w="21600" h="20621">
                <a:moveTo>
                  <a:pt x="6429" y="0"/>
                </a:moveTo>
                <a:cubicBezTo>
                  <a:pt x="15453" y="2814"/>
                  <a:pt x="21600" y="11168"/>
                  <a:pt x="21600" y="20621"/>
                </a:cubicBezTo>
                <a:lnTo>
                  <a:pt x="0" y="20621"/>
                </a:lnTo>
                <a:lnTo>
                  <a:pt x="6429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6"/>
          <p:cNvSpPr/>
          <p:nvPr/>
        </p:nvSpPr>
        <p:spPr>
          <a:xfrm>
            <a:off x="3652200" y="209376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58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8"/>
          <p:cNvSpPr/>
          <p:nvPr/>
        </p:nvSpPr>
        <p:spPr>
          <a:xfrm flipH="1" rot="16200000">
            <a:off x="2883240" y="27068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9"/>
          <p:cNvSpPr/>
          <p:nvPr/>
        </p:nvSpPr>
        <p:spPr>
          <a:xfrm flipH="1" rot="16200000">
            <a:off x="2883240" y="1922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4"/>
          <p:cNvSpPr/>
          <p:nvPr/>
        </p:nvSpPr>
        <p:spPr>
          <a:xfrm>
            <a:off x="1045800" y="14436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New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4792680" y="299736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pposite Ang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7"/>
          <p:cNvSpPr/>
          <p:nvPr/>
        </p:nvSpPr>
        <p:spPr>
          <a:xfrm>
            <a:off x="1118880" y="126828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ior Ang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2443320" y="2728800"/>
            <a:ext cx="16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add up to 180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  <a:ea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  <a:ea typeface="Arial"/>
              </a:rPr>
              <a:t>c + d = 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18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6"/>
          <p:cNvSpPr/>
          <p:nvPr/>
        </p:nvSpPr>
        <p:spPr>
          <a:xfrm>
            <a:off x="5756400" y="436392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are eq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1639800" y="1459080"/>
            <a:ext cx="2303640" cy="1728720"/>
            <a:chOff x="1639800" y="1459080"/>
            <a:chExt cx="2303640" cy="1728720"/>
          </a:xfrm>
        </p:grpSpPr>
        <p:grpSp>
          <p:nvGrpSpPr>
            <p:cNvPr id="163" name="Group 27"/>
            <p:cNvGrpSpPr/>
            <p:nvPr/>
          </p:nvGrpSpPr>
          <p:grpSpPr>
            <a:xfrm>
              <a:off x="1639800" y="1459080"/>
              <a:ext cx="2303640" cy="1728720"/>
              <a:chOff x="1639800" y="1459080"/>
              <a:chExt cx="2303640" cy="1728720"/>
            </a:xfrm>
          </p:grpSpPr>
          <p:sp>
            <p:nvSpPr>
              <p:cNvPr id="164" name="Line 12"/>
              <p:cNvSpPr/>
              <p:nvPr/>
            </p:nvSpPr>
            <p:spPr>
              <a:xfrm>
                <a:off x="1639800" y="1890720"/>
                <a:ext cx="2303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13"/>
              <p:cNvSpPr/>
              <p:nvPr/>
            </p:nvSpPr>
            <p:spPr>
              <a:xfrm>
                <a:off x="1639800" y="2682720"/>
                <a:ext cx="2303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14"/>
              <p:cNvSpPr/>
              <p:nvPr/>
            </p:nvSpPr>
            <p:spPr>
              <a:xfrm flipV="1">
                <a:off x="1855800" y="1459080"/>
                <a:ext cx="1800360" cy="172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Arc 15"/>
              <p:cNvSpPr/>
              <p:nvPr/>
            </p:nvSpPr>
            <p:spPr>
              <a:xfrm>
                <a:off x="2635200" y="2435400"/>
                <a:ext cx="71640" cy="247320"/>
              </a:xfrm>
              <a:custGeom>
                <a:avLst/>
                <a:gdLst/>
                <a:ahLst/>
                <a:rect l="l" t="t" r="r" b="b"/>
                <a:pathLst>
                  <a:path fill="none" w="21600" h="24742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2651"/>
                      <a:pt x="21523" y="23701"/>
                      <a:pt x="21370" y="24742"/>
                    </a:cubicBezTo>
                  </a:path>
                  <a:path stroke="0" w="21600" h="24742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2651"/>
                      <a:pt x="21523" y="23701"/>
                      <a:pt x="21370" y="24742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Arc 16"/>
              <p:cNvSpPr/>
              <p:nvPr/>
            </p:nvSpPr>
            <p:spPr>
              <a:xfrm flipV="1" rot="3786600">
                <a:off x="3130560" y="1803960"/>
                <a:ext cx="157320" cy="430200"/>
              </a:xfrm>
              <a:custGeom>
                <a:avLst/>
                <a:gdLst/>
                <a:ahLst/>
                <a:rect l="l" t="t" r="r" b="b"/>
                <a:pathLst>
                  <a:path fill="none" w="21600" h="41527">
                    <a:moveTo>
                      <a:pt x="6429" y="0"/>
                    </a:moveTo>
                    <a:cubicBezTo>
                      <a:pt x="15453" y="2814"/>
                      <a:pt x="21600" y="11168"/>
                      <a:pt x="21600" y="20621"/>
                    </a:cubicBezTo>
                    <a:cubicBezTo>
                      <a:pt x="21600" y="30457"/>
                      <a:pt x="14953" y="39052"/>
                      <a:pt x="5432" y="41526"/>
                    </a:cubicBezTo>
                  </a:path>
                  <a:path stroke="0" w="21600" h="41527">
                    <a:moveTo>
                      <a:pt x="6429" y="0"/>
                    </a:moveTo>
                    <a:cubicBezTo>
                      <a:pt x="15453" y="2814"/>
                      <a:pt x="21600" y="11168"/>
                      <a:pt x="21600" y="20621"/>
                    </a:cubicBezTo>
                    <a:cubicBezTo>
                      <a:pt x="21600" y="30457"/>
                      <a:pt x="14953" y="39052"/>
                      <a:pt x="5432" y="41526"/>
                    </a:cubicBezTo>
                    <a:lnTo>
                      <a:pt x="0" y="20621"/>
                    </a:lnTo>
                    <a:lnTo>
                      <a:pt x="6429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Rectangle 28"/>
            <p:cNvSpPr/>
            <p:nvPr/>
          </p:nvSpPr>
          <p:spPr>
            <a:xfrm>
              <a:off x="2716200" y="23004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29"/>
            <p:cNvSpPr/>
            <p:nvPr/>
          </p:nvSpPr>
          <p:spPr>
            <a:xfrm>
              <a:off x="3351600" y="1935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10"/>
          <p:cNvGrpSpPr/>
          <p:nvPr/>
        </p:nvGrpSpPr>
        <p:grpSpPr>
          <a:xfrm>
            <a:off x="5292720" y="3499920"/>
            <a:ext cx="1944720" cy="1081080"/>
            <a:chOff x="5292720" y="3499920"/>
            <a:chExt cx="1944720" cy="1081080"/>
          </a:xfrm>
        </p:grpSpPr>
        <p:sp>
          <p:nvSpPr>
            <p:cNvPr id="172" name="Line 5"/>
            <p:cNvSpPr/>
            <p:nvPr/>
          </p:nvSpPr>
          <p:spPr>
            <a:xfrm flipV="1">
              <a:off x="5292720" y="3499920"/>
              <a:ext cx="187200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6"/>
            <p:cNvSpPr/>
            <p:nvPr/>
          </p:nvSpPr>
          <p:spPr>
            <a:xfrm>
              <a:off x="5364360" y="3573360"/>
              <a:ext cx="187308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rc 8"/>
            <p:cNvSpPr/>
            <p:nvPr/>
          </p:nvSpPr>
          <p:spPr>
            <a:xfrm rot="708600">
              <a:off x="6518520" y="3860280"/>
              <a:ext cx="142920" cy="272880"/>
            </a:xfrm>
            <a:custGeom>
              <a:avLst/>
              <a:gdLst/>
              <a:ahLst/>
              <a:rect l="l" t="t" r="r" b="b"/>
              <a:pathLst>
                <a:path fill="none" w="21600" h="36070">
                  <a:moveTo>
                    <a:pt x="1488" y="0"/>
                  </a:moveTo>
                  <a:cubicBezTo>
                    <a:pt x="12813" y="782"/>
                    <a:pt x="21600" y="10197"/>
                    <a:pt x="21600" y="21549"/>
                  </a:cubicBezTo>
                  <a:cubicBezTo>
                    <a:pt x="21600" y="26918"/>
                    <a:pt x="19600" y="32094"/>
                    <a:pt x="15990" y="36069"/>
                  </a:cubicBezTo>
                </a:path>
                <a:path stroke="0" w="21600" h="36070">
                  <a:moveTo>
                    <a:pt x="1488" y="0"/>
                  </a:moveTo>
                  <a:cubicBezTo>
                    <a:pt x="12813" y="782"/>
                    <a:pt x="21600" y="10197"/>
                    <a:pt x="21600" y="21549"/>
                  </a:cubicBezTo>
                  <a:cubicBezTo>
                    <a:pt x="21600" y="26918"/>
                    <a:pt x="19600" y="32094"/>
                    <a:pt x="15990" y="36069"/>
                  </a:cubicBezTo>
                  <a:lnTo>
                    <a:pt x="0" y="21549"/>
                  </a:lnTo>
                  <a:lnTo>
                    <a:pt x="1488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rc 9"/>
            <p:cNvSpPr/>
            <p:nvPr/>
          </p:nvSpPr>
          <p:spPr>
            <a:xfrm flipH="1" rot="20891400">
              <a:off x="5941440" y="3871800"/>
              <a:ext cx="142920" cy="276120"/>
            </a:xfrm>
            <a:custGeom>
              <a:avLst/>
              <a:gdLst/>
              <a:ahLst/>
              <a:rect l="l" t="t" r="r" b="b"/>
              <a:pathLst>
                <a:path fill="none" w="21600" h="36617">
                  <a:moveTo>
                    <a:pt x="7759" y="0"/>
                  </a:moveTo>
                  <a:cubicBezTo>
                    <a:pt x="16098" y="3210"/>
                    <a:pt x="21600" y="11222"/>
                    <a:pt x="21600" y="20158"/>
                  </a:cubicBezTo>
                  <a:cubicBezTo>
                    <a:pt x="21600" y="26495"/>
                    <a:pt x="18816" y="32512"/>
                    <a:pt x="13987" y="36616"/>
                  </a:cubicBezTo>
                </a:path>
                <a:path stroke="0" w="21600" h="36617">
                  <a:moveTo>
                    <a:pt x="7759" y="0"/>
                  </a:moveTo>
                  <a:cubicBezTo>
                    <a:pt x="16098" y="3210"/>
                    <a:pt x="21600" y="11222"/>
                    <a:pt x="21600" y="20158"/>
                  </a:cubicBezTo>
                  <a:cubicBezTo>
                    <a:pt x="21600" y="26495"/>
                    <a:pt x="18816" y="32512"/>
                    <a:pt x="13987" y="36616"/>
                  </a:cubicBezTo>
                  <a:lnTo>
                    <a:pt x="0" y="20158"/>
                  </a:lnTo>
                  <a:lnTo>
                    <a:pt x="7759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Rectangle 30"/>
          <p:cNvSpPr/>
          <p:nvPr/>
        </p:nvSpPr>
        <p:spPr>
          <a:xfrm>
            <a:off x="5640840" y="3833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1"/>
          <p:cNvSpPr/>
          <p:nvPr/>
        </p:nvSpPr>
        <p:spPr>
          <a:xfrm>
            <a:off x="6714000" y="3830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9"/>
          <p:cNvSpPr/>
          <p:nvPr/>
        </p:nvSpPr>
        <p:spPr>
          <a:xfrm flipH="1" rot="16200000">
            <a:off x="1787760" y="2487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0"/>
          <p:cNvSpPr/>
          <p:nvPr/>
        </p:nvSpPr>
        <p:spPr>
          <a:xfrm flipH="1" rot="16200000">
            <a:off x="1787760" y="1703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35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1T00:40:31Z</dcterms:created>
  <dc:creator>levinn</dc:creator>
  <dc:description/>
  <dc:language>en-US</dc:language>
  <cp:lastModifiedBy>Luke Pearce</cp:lastModifiedBy>
  <dcterms:modified xsi:type="dcterms:W3CDTF">2018-06-05T10:19:34Z</dcterms:modified>
  <cp:revision>24</cp:revision>
  <dc:subject/>
  <dc:title>Slide 1</dc:title>
</cp:coreProperties>
</file>